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875-D9EA-4306-A048-802EE541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BAE-1969-453D-B8EE-8BB0741F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F02-E8D2-4928-AF41-C6A27BEE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706-5984-4C0B-AACD-2FCD1401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AE60-CBAC-4555-BD43-A0D2AFF8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1AF4-0D0D-40C9-A686-0D2B923A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A05-F4C7-47E4-8399-878AD2E0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2E5C-E1A9-44B4-BE28-7635858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37EB-A76C-491D-883E-467E2C59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A01-3D1E-430B-A51A-2BFFEC71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AE8-EFFE-40FF-BA02-5CE2F455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925-D71B-4143-9CC1-9C7B2A7C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E915-1447-4B30-ADDA-2340585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B324-7F00-48ED-87D5-A8B3847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9C27-AE5F-489D-B5FA-354AC20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36E0-87BF-4492-9405-B689DB60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F4A2-A673-4994-803D-BD57C9F2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513B-A550-47E3-B7D6-948F783C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2661-9D5C-4486-8C9E-27043CFE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B214-DF15-4C7E-B8F4-C613251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9F0C-F5D4-45AF-B172-F730DB60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DEF4-88AF-4F66-9122-18DA260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CD4-B162-4776-9CA6-50EA5BCE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F309-44D6-4564-8A62-031E07D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EDD2-4CF1-4EAC-A555-DE52435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0DDB-8199-4D2E-A6B6-A0A1AF9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2CAB-EAA7-4FEA-8094-1132CA1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2EF7-5EA9-4B72-AA1A-8301492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2214-472D-4F02-A4D7-C7269567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6B84-EC00-4A9F-90CD-D0A612A5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B26-A93C-4EFA-B63D-63DD089A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099-2073-4332-B4CF-D4DD6B6B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530-2AF5-4D74-A32B-F8D4A879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670-C9EA-40BC-A747-0119E49F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900-CB40-45D4-B9AA-D84A4CB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FED-57CB-4A61-8CA4-3507342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3A7C-8C04-4829-B7C2-BA7F5248F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DFD-82C1-42AF-B9E7-2F984E335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8F2-D969-4170-9D57-3BB728E4B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971640"/>
            <a:ext cx="7924680" cy="53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00"/>
                </a:solidFill>
                <a:latin typeface="Arial"/>
              </a:rPr>
              <a:t>Да,</a:t>
            </a:r>
            <a:r>
              <a:rPr b="0" lang="bg-BG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66"/>
                </a:solidFill>
                <a:latin typeface="Arial"/>
              </a:rPr>
              <a:t>наистина е безплатн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4360"/>
            <a:ext cx="9144000" cy="53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rial"/>
              </a:rPr>
              <a:t>Това е</a:t>
            </a:r>
            <a:r>
              <a:rPr b="0" lang="bg-BG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8800" spc="-1" strike="noStrike">
                <a:solidFill>
                  <a:srgbClr val="ffff00"/>
                </a:solidFill>
                <a:latin typeface="Arial"/>
              </a:rPr>
              <a:t>нашият начин да ви кажем:</a:t>
            </a:r>
            <a:br>
              <a:rPr sz="8800"/>
            </a:br>
            <a:r>
              <a:rPr b="1" lang="bg-BG" sz="8000" spc="-1" strike="noStrike">
                <a:solidFill>
                  <a:srgbClr val="ffff00"/>
                </a:solidFill>
                <a:latin typeface="Arial"/>
              </a:rPr>
              <a:t>“БОГ ВИ ОБИЧА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971640"/>
            <a:ext cx="7924680" cy="53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00"/>
                </a:solidFill>
                <a:latin typeface="Arial"/>
              </a:rPr>
              <a:t>Да,</a:t>
            </a:r>
            <a:r>
              <a:rPr b="0" lang="bg-BG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66"/>
                </a:solidFill>
                <a:latin typeface="Arial"/>
              </a:rPr>
              <a:t>наистина е безплатн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971640"/>
            <a:ext cx="7924680" cy="53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00"/>
                </a:solidFill>
                <a:latin typeface="Arial"/>
              </a:rPr>
              <a:t>Да,</a:t>
            </a:r>
            <a:r>
              <a:rPr b="0" lang="bg-BG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66"/>
                </a:solidFill>
                <a:latin typeface="Arial"/>
              </a:rPr>
              <a:t>наистина е безплатн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84360"/>
            <a:ext cx="9144000" cy="53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rial"/>
              </a:rPr>
              <a:t>Това е</a:t>
            </a:r>
            <a:r>
              <a:rPr b="0" lang="bg-BG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8800" spc="-1" strike="noStrike">
                <a:solidFill>
                  <a:srgbClr val="ffff00"/>
                </a:solidFill>
                <a:latin typeface="Arial"/>
              </a:rPr>
              <a:t>нашият начин да ви кажем:</a:t>
            </a:r>
            <a:br>
              <a:rPr sz="8800"/>
            </a:br>
            <a:r>
              <a:rPr b="1" lang="bg-BG" sz="8000" spc="-1" strike="noStrike">
                <a:solidFill>
                  <a:srgbClr val="ffff00"/>
                </a:solidFill>
                <a:latin typeface="Arial"/>
              </a:rPr>
              <a:t>“БОГ ВИ ОБИЧА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4572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523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057400"/>
            <a:ext cx="533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4572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523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2057400"/>
            <a:ext cx="533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4572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301640"/>
            <a:ext cx="853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4572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301640"/>
            <a:ext cx="853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0720" y="4572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1523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057400"/>
            <a:ext cx="533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4572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1523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057400"/>
            <a:ext cx="533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05120" y="1828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22:30:43Z</dcterms:created>
  <dc:creator>Eva</dc:creator>
  <dc:description/>
  <dc:language>en-US</dc:language>
  <cp:lastModifiedBy>Eva</cp:lastModifiedBy>
  <dcterms:modified xsi:type="dcterms:W3CDTF">2004-03-27T00:57:47Z</dcterms:modified>
  <cp:revision>7</cp:revision>
  <dc:subject/>
  <dc:title>Slide 1</dc:title>
</cp:coreProperties>
</file>