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653D-041B-4DA3-BDA3-5765FC43E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1C11-05CE-420B-BA1B-428F4E7A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72EE-2411-44FD-ACC6-A99292A88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2597-2AFA-44BE-B214-BA40BBDF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9308-EE37-476B-A527-D4B787C7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E9A8-5761-4A46-AD4F-8EBAAD2D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AD07-25E8-4B2D-9748-C618295D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99B8-FDAB-4F92-806C-30C148A7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3569-9760-4465-B7CD-E5E086D5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D0F8-DE61-496F-95A9-FA896459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96DB-FC5A-472B-BD6C-03D46762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8B66-E5D4-4604-AFD3-5514E21E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2605-9A31-4F09-A4C9-006876C84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8000" y="44280"/>
            <a:ext cx="460836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ccff99"/>
                </a:solidFill>
                <a:latin typeface="comic"/>
              </a:rPr>
              <a:t>28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сичко тръпне в красота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е любов цари;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ивно еква песента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е любов цари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 дома чезне облак лих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мир владее и усмих;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там живот щастлив е, тих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е любов цар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4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4920" y="4508640"/>
            <a:ext cx="3635280" cy="37602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ccff99"/>
                </a:solidFill>
                <a:latin typeface="comic"/>
              </a:rPr>
              <a:t>Припев: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ъв дома, във дома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бърже времето лети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е любов цар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4500720" cy="691812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И в най-беден скромен дом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е любов цари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чуй се радостен псалом -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там любов цари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Щастие всякъде трепти, сладост всичко ни шепти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роза в бурени цъфти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е любов цар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4508640"/>
            <a:ext cx="3635280" cy="37602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ccff99"/>
                </a:solidFill>
                <a:latin typeface="comic"/>
              </a:rPr>
              <a:t>Припев: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ъв дома, във дома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бърже времето лети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е любов цар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98320" y="503280"/>
            <a:ext cx="2894040" cy="43657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</p:pic>
      <p:sp>
        <p:nvSpPr>
          <p:cNvPr id="52" name=""/>
          <p:cNvSpPr/>
          <p:nvPr/>
        </p:nvSpPr>
        <p:spPr>
          <a:xfrm>
            <a:off x="4211640" y="2060640"/>
            <a:ext cx="44658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сичко радва се и смей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е любов цари;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и доволство там владей,                     де любов цари!                                         Сладко пей планински вир               и усмихва се безспир синята безмерна шир,                 де любов цари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4920" y="4508640"/>
            <a:ext cx="3635280" cy="37602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ccff99"/>
                </a:solidFill>
                <a:latin typeface="comic"/>
              </a:rPr>
              <a:t>Припев: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ъв дома, във дома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бърже времето лети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е любов цар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21:04:33Z</dcterms:created>
  <dc:creator>TrifonTrifonow</dc:creator>
  <dc:description/>
  <dc:language>en-US</dc:language>
  <cp:lastModifiedBy>TrifonTrifonow</cp:lastModifiedBy>
  <dcterms:modified xsi:type="dcterms:W3CDTF">2005-12-14T21:35:46Z</dcterms:modified>
  <cp:revision>10</cp:revision>
  <dc:subject/>
  <dc:title>Slide 1</dc:title>
</cp:coreProperties>
</file>