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2563-5559-47EA-AC50-347AC946F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C553-81D1-4710-8754-62BB8AAD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FC37-779F-4DBA-910A-AF91013E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3F0A-BB52-4CB4-AE21-D3564D089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2AA1-72C0-4185-89CF-C036C5DB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088E-4825-4CC3-99BF-2EE301F2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1728-B7ED-46E2-8CFD-689847A2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8C87-F7FF-441C-9F87-418FAB8F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5FA0-6924-44F1-A905-3F8402E0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20BD-4AEF-4CAB-BFCE-F899E801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1E46-989C-406D-BC52-5389CA46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B388-302E-4270-B562-E6488C46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5B7D-5631-4558-BBC4-5CD502DD0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600"/>
            <a:ext cx="9144000" cy="67971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5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1. </a:t>
            </a: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Исусе драгоценни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за Теб копнея аз;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в грях окован, аз пъшкам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в тъма и леден мраз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Нуждая се от онзи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церителен поток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де Твойта кръв свещена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измива всек поро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4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97920"/>
            <a:ext cx="9147240" cy="68889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Bookman Old Style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2. </a:t>
            </a: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Исусе драгоценни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за Теб копнея аз;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окаян скитник викам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за помощ в този час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Нуждая се в съмнения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от Твоята любов -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да ми оправя пътя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и мен да е покров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1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8800"/>
            <a:ext cx="9147240" cy="67971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2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3. </a:t>
            </a: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Исусе драгоценни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за Теб копнея аз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Ела, живей в сърце ми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ще съм блажен тогаз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А после в вечна слава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в сияйни висоти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сърце ми ще възпява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величието Т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2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08:39:52Z</dcterms:created>
  <dc:creator>TrifonTrifonow</dc:creator>
  <dc:description/>
  <dc:language>en-US</dc:language>
  <cp:lastModifiedBy>TrifonTrifonow</cp:lastModifiedBy>
  <dcterms:modified xsi:type="dcterms:W3CDTF">2005-11-22T07:20:48Z</dcterms:modified>
  <cp:revision>6</cp:revision>
  <dc:subject/>
  <dc:title>Slide 1</dc:title>
</cp:coreProperties>
</file>