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4CE-9637-4A74-B6B6-B171DFFE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E05-4AEA-433B-90E3-C4E7BA78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18A-2122-43A0-9091-6558B2A8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268-15DA-46E3-9178-02641AB9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598-C89C-4EB2-AE2E-96761CF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DED-A1D3-485C-962E-518817D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407-E68F-4134-B836-41201C58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372-4F10-4B2F-AB7B-5F8D174F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535-C896-478E-8309-E18E401A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FF1-831B-4510-97EE-7D22AF9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200-C9C8-4956-A347-20339F9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9F7-21E1-4FC7-8C6C-E74A9AF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6CEB-79CC-466D-BCD5-694AEBE63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2160" y="515880"/>
            <a:ext cx="784692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3399"/>
                </a:solidFill>
                <a:latin typeface="Bookman Old Style"/>
              </a:rPr>
              <a:t>60</a:t>
            </a:r>
            <a:r>
              <a:rPr b="1" lang="bg-BG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следник на царство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още ли спиш?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ак можеш да дреме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тез времена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ъбуди се приле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 работиш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о волята на Изкупите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86040"/>
            <a:ext cx="9112320" cy="7103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следник на царство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готов ли си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рона слав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 носиш и ти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върд стой против греховет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помни с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ак Господ стра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в край побед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иж как човеци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гинат без Бог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ез вяра в Словот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наший Спас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о ще се стреснат 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коро в тревог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га Го ви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ъв слава и власт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8:57:12Z</dcterms:created>
  <dc:creator>TrifonTrifonow</dc:creator>
  <dc:description/>
  <dc:language>en-US</dc:language>
  <cp:lastModifiedBy>TrifonTrifonow</cp:lastModifiedBy>
  <dcterms:modified xsi:type="dcterms:W3CDTF">2005-11-22T07:24:07Z</dcterms:modified>
  <cp:revision>7</cp:revision>
  <dc:subject/>
  <dc:title>Slide 1</dc:title>
</cp:coreProperties>
</file>