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1B3-836F-4814-90FB-D2326D7A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D7A-1E47-417A-8388-E14B316F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563-7B42-49DA-9F55-98E167D9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6FE-7820-417E-9532-E427066C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DBC-DE66-4487-8EDF-3EAB0516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892-5090-4BB2-8C4B-E808B23C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9A0-7BB1-4588-B5C3-E6EA4FAE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AA4-7506-4B77-ACF2-D4A13BF9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0CE-654F-4B0A-B211-18250C2E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718-3FC9-4F67-9A4A-5C643D10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522-12DA-4609-BCEE-490086B2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885-DEC5-4F5F-8A8B-13B792AC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9F62-2196-42C8-B289-B761E9970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274680"/>
            <a:ext cx="69138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cc"/>
                </a:solidFill>
                <a:latin typeface="Bookman Old Style"/>
              </a:rPr>
              <a:t>               </a:t>
            </a:r>
            <a:r>
              <a:rPr b="1" lang="bg-BG" sz="4400" spc="-1" strike="noStrike">
                <a:solidFill>
                  <a:srgbClr val="ff99cc"/>
                </a:solidFill>
                <a:latin typeface="Bookman Old Style"/>
              </a:rPr>
              <a:t>83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ъс добрите си дела светете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разгласявайте вестта;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ъс светило вий се украсете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за да срещнете Хри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944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0000"/>
                </a:solidFill>
                <a:latin typeface="Bookman Old Style"/>
              </a:rPr>
              <a:t>Припе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"Будни бъдете!" - Господ реч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Побързайте всички сег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Той ще ни вземе скоро веч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в Своята свята зем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280880" y="1627200"/>
            <a:ext cx="992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Бдете и молете се във всек час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пристъпете при Христа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кат чада на своя благ и мил Спас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вий измийте се в кръв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944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0000"/>
                </a:solidFill>
                <a:latin typeface="Bookman Old Style"/>
              </a:rPr>
              <a:t>Припе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"Будни бъдете!" - Господ реч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Побързайте всички сег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Той ще ни вземе скоро веч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в Своята свята зем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36360" y="-27000"/>
            <a:ext cx="9180360" cy="8137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дете, вярвайте, бъдете точни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ози свят докато трай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окат славата Христова почне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 вечността, в небесний р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944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0000"/>
                </a:solidFill>
                <a:latin typeface="Bookman Old Style"/>
              </a:rPr>
              <a:t>Припе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"Будни бъдете!" - Господ реч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Побързайте всички сег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Той ще ни вземе скоро веч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в Своята свята зем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00:54:09Z</dcterms:created>
  <dc:creator>TrifonTrifonow</dc:creator>
  <dc:description/>
  <dc:language>en-US</dc:language>
  <cp:lastModifiedBy>TrifonTrifonow</cp:lastModifiedBy>
  <dcterms:modified xsi:type="dcterms:W3CDTF">2005-11-22T07:41:59Z</dcterms:modified>
  <cp:revision>11</cp:revision>
  <dc:subject/>
  <dc:title>Slide 1</dc:title>
</cp:coreProperties>
</file>