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945-530D-42F5-8F6E-D0290DC2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F16-8458-43E0-ABA2-45AAC77B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B25-E9CD-4359-97CE-0ED32FB5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BD1-D1E3-4B92-9322-05EBDAD2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FF4-EB19-4FDA-81E6-8256DA51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1D0A-318B-4FA5-9419-DC5F5B80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D57-FB7D-4FF1-A95E-4090C24A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D86-4CC5-4F0E-9123-D7C40433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2B6B-CAAE-4E5D-89A8-16C08CFB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7CF-0636-49ED-BEAF-DF0107F9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70A9-1AF7-4244-A132-5A769EC3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6B4B-04D1-4E94-B0C6-6786F17F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1091-C571-44CC-A611-38F845401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36360" y="-27000"/>
            <a:ext cx="9070920" cy="81378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Аз съм чул, че ме люби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Христос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че към мен милости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ой ще е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ой наистина ли тук дойд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а спаси мен с пречуд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любов, любов,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а спаси мен с пречудна люб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84360" y="333360"/>
            <a:ext cx="658836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Христос от небето слезна да умре с кръстна смър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еб и мен да спас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-512280"/>
            <a:ext cx="896472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2. Аз съм чул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че кръвта Си прол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че на кръста кръвта Си прол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Но наистина вярно ли 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че за мен Той кръвта С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       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проля, прол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че за мен Той кръвта Си прол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84360" y="333360"/>
            <a:ext cx="658836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Христос от небето слезна да умре с кръстна смър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еб и мен да спас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5580000" cy="7044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0" y="-2089080"/>
            <a:ext cx="5545080" cy="1106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3. Аз съм чул и за д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                        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в небес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що за Своите приготвил</a:t>
            </a: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                                 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                           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е Т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Но дали в то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           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славен покой има място, готово за мен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                          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за мен, има място, гото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                            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за ме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84360" y="333360"/>
            <a:ext cx="658836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Христос от небето слезна да умре с кръстна смър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еб и мен да спас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-2988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4. О, Исусе, Ти отв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 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ми дай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воят Дух да ми каже сег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 ми стане известно тов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че Спасител Си Ти и за мен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              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за мен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че Спасител Си Ти и за мен!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84360" y="333360"/>
            <a:ext cx="658836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Христос от небето слезна да умре с кръстна смър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еб и мен да спас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8:41:39Z</dcterms:created>
  <dc:creator>TrifonTrifonow</dc:creator>
  <dc:description/>
  <dc:language>en-US</dc:language>
  <cp:lastModifiedBy>TrifonTrifonow</cp:lastModifiedBy>
  <dcterms:modified xsi:type="dcterms:W3CDTF">2005-11-22T08:57:14Z</dcterms:modified>
  <cp:revision>9</cp:revision>
  <dc:subject/>
  <dc:title>Slide 1</dc:title>
</cp:coreProperties>
</file>