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21F-37A4-4C12-8346-1EDE67AA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164-BD9B-40EF-B009-2F5547AC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C3B-C1B9-4D22-A605-E58909DA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854-743B-43E4-96A0-CE60A13C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541-4D11-4848-9262-2946D41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A45-2D4E-4787-B39D-2E3DB89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6DA-9E5B-49D9-8606-04D7926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934-B048-40B4-8BFC-8108B80B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370-6838-4836-A11D-40C590C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7CE-2FF1-4DE3-9D87-9166CA4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622-130C-450B-9E35-6B7ABEE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614-8AF0-4402-BFA7-BBD0621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E2C-7879-4D7B-B66A-F2CDD4A7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446480"/>
            <a:ext cx="9147240" cy="9698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3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, ден освет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правиш ме да съм блажен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онасяш ми ти свят покой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мир от Бога мо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6360" y="-1647360"/>
            <a:ext cx="8496000" cy="9600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 на радост, мир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за душата свят си пир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ъди сега помежду нас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Своя Дух, о, Боже наш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486800"/>
            <a:ext cx="9144000" cy="9873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Господи, в тоз светъл д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а бъда аз благосл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Твоя Дух възобн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рай да празнувам аз Твоя д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06:14Z</dcterms:created>
  <dc:creator>TrifonTrifonow</dc:creator>
  <dc:description/>
  <dc:language>en-US</dc:language>
  <cp:lastModifiedBy>TrifonTrifonow</cp:lastModifiedBy>
  <dcterms:modified xsi:type="dcterms:W3CDTF">2005-10-20T18:09:34Z</dcterms:modified>
  <cp:revision>7</cp:revision>
  <dc:subject/>
  <dc:title>Slide 1</dc:title>
</cp:coreProperties>
</file>