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FA6-202B-4B0F-BF2C-E41A52C3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511-5EA8-47F8-B774-462D8E9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A77-C072-4627-8F27-95850853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E32-1AF6-4287-BA5C-334E2992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2A4-A585-4FCC-90C9-8FC69ED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758-005C-4AD0-9851-8ECBA5DF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777-BA78-42C3-AFA5-094CE1B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8A6-DBBD-41AB-B4C8-30B4EC05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458-2E9E-440D-A8C3-D9E48F2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E4D-90B9-4556-BF82-17812C0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824-8635-454D-92D5-5AF695AF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995-DC64-4EC9-B7A7-FFB5AA7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B842-6B3A-4892-B855-2A4E63CBC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41400" y="2343960"/>
            <a:ext cx="11030040" cy="40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Учителю небесни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сети ни в тоз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помогни с молби 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еб да славим, милий Спас! :]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97880" y="3158640"/>
            <a:ext cx="10144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ние чада да станем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могни ни Ти сега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Дай такива да остан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ука и през вечността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3640" y="3229920"/>
            <a:ext cx="92563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агънца да бъд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ние послушни всек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както Ти бе на земята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не жертвено за нас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514800" y="3158640"/>
            <a:ext cx="101750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Ти Пастирю небесни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ънцата Си води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Ще Ти пеем хвалн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в рая, там ни заведи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17:50Z</dcterms:created>
  <dc:creator>TrifonTrifonow</dc:creator>
  <dc:description/>
  <dc:language>en-US</dc:language>
  <cp:lastModifiedBy>TrifonTrifonow</cp:lastModifiedBy>
  <dcterms:modified xsi:type="dcterms:W3CDTF">2005-10-20T16:51:21Z</dcterms:modified>
  <cp:revision>4</cp:revision>
  <dc:subject/>
  <dc:title>Slide 1</dc:title>
</cp:coreProperties>
</file>