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9751-7C45-4D5F-8961-F59DF89C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8805-523B-4D41-A67F-CC788FBC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EEC8-9538-4952-B4AE-2E3178B6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722A-2A7C-456C-B597-83492404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BF78-684B-4E36-95F4-621AE5CC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766A-B8DC-4CE0-B42C-F05361D8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94B0-AC0D-4797-BCF1-FBFBA0CD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815D-6739-4315-85A8-2EDAECE2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6DED-08A8-41E9-A582-C8A6A381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22B9-7F30-4294-9364-7EA3C0B9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1F14-A859-4270-87F3-09229E7C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CE97-61FF-4FFF-AE23-EF0E6181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1D0B-5C7F-48B1-A9C6-86600629D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60360" y="212760"/>
            <a:ext cx="8748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Bookman Old Style"/>
              </a:rPr>
              <a:t>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Господнята събота св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настава отново за нас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Днес нек всяка твар на земята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се радва на Бога в захлас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И във тихия нежен ветр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и в бурята говори Той;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ах да можех проумя днес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що казва ми с това Бог мой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Напред или назад в живота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наказва, прощава - все Той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Греша ли, със смърт м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заплашва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но пък и Спасител е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800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80800" y="384480"/>
            <a:ext cx="6804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Сърцето ми в тоз ден възпява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делата на Бога пресвят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Днес Господ Исус ми дарява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особената благодат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Над звезди, ветрове и бури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Ти, Боже, Си сам Господар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И те заедно със морето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Теб славят - свой Бог и свой Цар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Земята, небето Ти пеят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във тоз ден, от Теб осветен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Прославя Те Твоето дело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що свършено бе в седмий де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86600" y="400320"/>
            <a:ext cx="66333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Щом земната мисия свърши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почина Си в събота Спас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За всички спасени знак вечен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направена бе тя тогаз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И днес ми обещава радост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блаженство Спасителят мой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Той кани ме в тоз ден на святост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да дойда във пълен покой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Събира Той людете Свои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Свой знак слага им на чело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в небесен покой Той ги води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в един дух и в едно те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9000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5:10:45Z</dcterms:created>
  <dc:creator>TrifonTrifonow</dc:creator>
  <dc:description/>
  <dc:language>en-US</dc:language>
  <cp:lastModifiedBy>TrifonTrifonow</cp:lastModifiedBy>
  <dcterms:modified xsi:type="dcterms:W3CDTF">2005-11-21T14:12:13Z</dcterms:modified>
  <cp:revision>9</cp:revision>
  <dc:subject/>
  <dc:title>Slide 1</dc:title>
</cp:coreProperties>
</file>