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2C4-7CB5-44F2-B246-D28A17AD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E2D-2F5E-4241-98FD-D6258D8F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071-4915-4781-8A3A-E62B1A2B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FF5-CDCB-4253-A70F-3F2E90D3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FB8-8AD2-43F1-A184-74270E8A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FAE-5DC6-45FD-BD45-4460C673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639-1A77-4F27-8EAD-041BBCC4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12A-06DF-46B4-ABF0-01B9322F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8D6-9616-4524-9C8F-A74083CF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07E-12C1-4C24-8CC0-42B6A950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9BE-3109-4261-9B3A-48047B3F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E54-6EFE-473F-8840-3F0288E2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A283-A24D-4783-864B-00984DB5A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44280"/>
            <a:ext cx="6408720" cy="81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     </a:t>
            </a:r>
            <a:r>
              <a:rPr b="1" lang="bg-BG" sz="4800" spc="-1" strike="noStrike">
                <a:solidFill>
                  <a:srgbClr val="ffff00"/>
                </a:solidFill>
                <a:latin typeface="Baskerville Old Face"/>
              </a:rPr>
              <a:t>9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О, прибежище добр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о, ти вечна Канар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Из Господните ребр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кръв изтече и вод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нека те да ме спася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и омият от грех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27280" y="115920"/>
            <a:ext cx="6408720" cy="74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2. Сълзи да проливам аз непрестанно, всеки час, никога не могат те греховете ми отне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Но Ти, вечна Канар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ме спасяваш от грех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27280" y="241200"/>
            <a:ext cx="6408720" cy="74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3. Нищо аз в ръцете с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не донасям, Господ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Гол съм - даваш облекло, нищо съм - даваш добро! Гладен, жаден - ястие даваш Ти и пит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95640" y="260280"/>
            <a:ext cx="6840360" cy="74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4. В краткотрайния</a:t>
            </a: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живот, Господи, до мен бъди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Близо в тоз плачевен дол</a:t>
            </a: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и пред съдния престол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О, Прибежище добр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о, Ти вечна Канар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1:28:03Z</dcterms:created>
  <dc:creator>TrifonTrifonow</dc:creator>
  <dc:description/>
  <dc:language>en-US</dc:language>
  <cp:lastModifiedBy>TrifonTrifonow</cp:lastModifiedBy>
  <dcterms:modified xsi:type="dcterms:W3CDTF">2005-11-22T09:21:25Z</dcterms:modified>
  <cp:revision>10</cp:revision>
  <dc:subject/>
  <dc:title>Slide 1</dc:title>
</cp:coreProperties>
</file>