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58D1-834F-497A-96EE-D1DB227A9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B512-3435-4CA1-9EFD-BCEA44A02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0C8D-8854-4788-9CED-355E0CD5C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9031-009B-490F-89EB-144E5F9B0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CD19-D539-4CBA-9A2C-4C4C278BA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E343-5C8C-4031-8109-4E656B779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CCFE-16DB-420C-93FA-59CD397CC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79CD-6A11-4547-B388-E9405E54F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BC90-328E-4D79-A9B5-8131265EA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9556-D06C-4DE5-808D-D3593C19A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89F4-BEA9-4DF2-B98A-467B93A15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0C5B-E1D7-4189-B4C3-F05E9C056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E6DD6-D442-4F0C-8D41-D512DC286D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-41148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Times New Roman"/>
              </a:rPr>
              <a:t>291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Times New Roman"/>
              </a:rPr>
              <a:t>1. С нас остани! Денят замира веч;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  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bg-BG" sz="4000" spc="-1" strike="noStrike">
                <a:solidFill>
                  <a:srgbClr val="ffffff"/>
                </a:solidFill>
                <a:latin typeface="Times New Roman"/>
              </a:rPr>
              <a:t>вред нощни сенки падат отдалеч;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Times New Roman"/>
              </a:rPr>
              <a:t>блуждаем ний в тъма отчаяни,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bg-BG" sz="4000" spc="-1" strike="noStrike">
                <a:solidFill>
                  <a:srgbClr val="ffffff"/>
                </a:solidFill>
                <a:latin typeface="Times New Roman"/>
              </a:rPr>
              <a:t>безпомощни, сами -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Times New Roman"/>
              </a:rPr>
              <a:t>с нас остани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8317080" y="6093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advTm="49000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-757080" y="115200"/>
            <a:ext cx="9901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Times New Roman"/>
              </a:rPr>
              <a:t>2. Засеня мрак и нашия живот;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bg-BG" sz="4000" spc="-1" strike="noStrike">
                <a:solidFill>
                  <a:srgbClr val="ffffff"/>
                </a:solidFill>
                <a:latin typeface="Times New Roman"/>
              </a:rPr>
              <a:t>изчезват слава, радости, имот;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bg-BG" sz="4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bg-BG" sz="4000" spc="-1" strike="noStrike">
                <a:solidFill>
                  <a:srgbClr val="ffffff"/>
                </a:solidFill>
                <a:latin typeface="Times New Roman"/>
              </a:rPr>
              <a:t>нищо не щадят променливи дни;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bg-BG" sz="4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bg-BG" sz="4000" spc="-1" strike="noStrike">
                <a:solidFill>
                  <a:srgbClr val="ffffff"/>
                </a:solidFill>
                <a:latin typeface="Times New Roman"/>
              </a:rPr>
              <a:t>Ти Си неизменим - с нас остани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6000"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-1656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Times New Roman"/>
              </a:rPr>
              <a:t>3. Не ни зарадвай с поглед сал един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bg-BG" sz="4000" spc="-1" strike="noStrike">
                <a:solidFill>
                  <a:srgbClr val="ffffff"/>
                </a:solidFill>
                <a:latin typeface="Times New Roman"/>
              </a:rPr>
              <a:t>но в нас живей, о, Боже, Ти самин!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bg-BG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Times New Roman"/>
              </a:rPr>
              <a:t>Христе, с ръка Си крепка ни хвани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bg-BG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Times New Roman"/>
              </a:rPr>
              <a:t>и вечно ни води - с нас остани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7000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7044120"/>
          </a:xfrm>
          <a:prstGeom prst="rect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-73080" y="4137840"/>
            <a:ext cx="9541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Times New Roman"/>
              </a:rPr>
              <a:t>4. Нуждаем се от Теб ний всеки час-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bg-BG" sz="4000" spc="-1" strike="noStrike">
                <a:solidFill>
                  <a:srgbClr val="ffffff"/>
                </a:solidFill>
                <a:latin typeface="Times New Roman"/>
              </a:rPr>
              <a:t>за изкушения сила няма в нас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bg-BG" sz="4000" spc="-1" strike="noStrike">
                <a:solidFill>
                  <a:srgbClr val="ffffff"/>
                </a:solidFill>
                <a:latin typeface="Times New Roman"/>
              </a:rPr>
              <a:t>Спасителю, от зло ни Ти брани!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bg-BG" sz="4000" spc="-1" strike="noStrike">
                <a:solidFill>
                  <a:srgbClr val="ffffff"/>
                </a:solidFill>
                <a:latin typeface="Times New Roman"/>
              </a:rPr>
              <a:t>През мрак, през видело - с нас остани!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0"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1T11:55:51Z</dcterms:created>
  <dc:creator>TrifonTrifonow</dc:creator>
  <dc:description/>
  <dc:language>en-US</dc:language>
  <cp:lastModifiedBy>TrifonTrifonow</cp:lastModifiedBy>
  <dcterms:modified xsi:type="dcterms:W3CDTF">2005-11-22T21:04:21Z</dcterms:modified>
  <cp:revision>9</cp:revision>
  <dc:subject/>
  <dc:title>Slide 1</dc:title>
</cp:coreProperties>
</file>