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CE4-D7D9-4E0A-A779-8DAFC3B5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E01-A4D1-47DE-B76F-4109836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B9D-3103-4181-AC23-8301F4AD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D88-FE56-4AC1-B848-E204EE72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63B-DF30-4D79-97DA-18C4D78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8AB-834D-4545-A375-7177C09A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C17-F084-46EA-9D3A-EE36D8F0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CA4-BA6A-44FA-B891-BD3430AC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3D9-85D2-48EF-A53D-54E1626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DA8-C157-4BA6-BD96-B0D5499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A8A-F19E-479E-92AC-3B9357F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670-0288-4E62-8507-C8509CC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5420-8F0E-4B82-9FCD-E505E85C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5320" y="45720"/>
            <a:ext cx="10806120" cy="512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Bookman Old Style"/>
              </a:rPr>
              <a:t>85</a:t>
            </a:r>
            <a:r>
              <a:rPr b="1" lang="en-US" sz="6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bg-BG" sz="6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ога Господ, Съдият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егли нашите дел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лато ли ще ни намери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съвсем без це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19320" y="190080"/>
            <a:ext cx="120052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Наший Бог ще ли ни каже: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"Верний рабе и блажен"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О, да станем да работим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докато е още ден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597960" y="117720"/>
            <a:ext cx="1090224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ак отваряме сърца си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а гласа на Дух Свети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бавим се, додето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ой от нас в век отлет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7:01:59Z</dcterms:created>
  <dc:creator>TrifonTrifonow</dc:creator>
  <dc:description/>
  <dc:language>en-US</dc:language>
  <cp:lastModifiedBy>TrifonTrifonow</cp:lastModifiedBy>
  <dcterms:modified xsi:type="dcterms:W3CDTF">2005-11-22T08:46:47Z</dcterms:modified>
  <cp:revision>14</cp:revision>
  <dc:subject/>
  <dc:title>Slide 1</dc:title>
</cp:coreProperties>
</file>