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BAB-50C4-480D-BA5C-2E7EE669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266-6CFC-4F34-A5E0-64D15166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4E6-6F64-4D38-B821-25FD3B1B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1A5-DA94-4DBD-946A-0C83E41B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F6F-27EC-4465-AFB1-BFBFDEB6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6DE-0B9D-473B-B59D-62B37F2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B62-CCAF-4C13-8EE8-E8F4E25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206-9504-4C65-BB0B-C8812D0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284-BA1E-4A93-BF1E-3332F23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D8C-5B1D-498F-BE62-184C1F2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3DA-2775-4F55-8E17-9B1EA1A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600-ABE7-44F1-B3CB-7C6DCB6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E0C-A12D-4694-A348-D45816AE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4716360" cy="35370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250920" y="3860640"/>
            <a:ext cx="47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2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н Исус е възлю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лко благ към мен е 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, да бъда аз готов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да приема таз люб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38920" y="260280"/>
            <a:ext cx="2954160" cy="410544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504720" y="3716280"/>
            <a:ext cx="55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лкоз ме обича Той,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че небесния покой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 радост Той за мен презря, слезе тука и умря!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87640" cy="291636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395280" y="393372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Горе в слава при Отц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люби малките деца;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е са грешни - Той е благ; те са слаби - Той е я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9400" y="333360"/>
            <a:ext cx="4530600" cy="339876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324000" y="41497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ко тука слушам аз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з любезен Негов глас, мене Той ще прибер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горе в светлото небе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58:36Z</dcterms:created>
  <dc:creator>TrifonTrifonow</dc:creator>
  <dc:description/>
  <dc:language>en-US</dc:language>
  <cp:lastModifiedBy>TrifonTrifonow</cp:lastModifiedBy>
  <dcterms:modified xsi:type="dcterms:W3CDTF">2005-12-08T10:29:22Z</dcterms:modified>
  <cp:revision>16</cp:revision>
  <dc:subject/>
  <dc:title>Slide 1</dc:title>
</cp:coreProperties>
</file>