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662-99B0-4EF1-A76B-E53FE08C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3CE-9434-4C8D-8AA0-47531F9A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FDC-24E4-40EF-9FD5-84DD0188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9B0-26D2-46DD-8FBB-8AD63487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86A-8AAF-4745-8E27-49819A0D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D5F-4CB0-4355-9CFA-E0CCF53B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F42-47A1-44C9-B490-9166DFEB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CF5-67A0-41FE-8FB7-A52D834B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BAB-D07B-414B-B9B2-7E9C810A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6D6-AE65-4933-9AAD-2D7136C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651-18E2-49D8-BB0B-96DCB65B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BC4-0538-4F93-A4B9-EDC56F84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D90B-ACE3-41D9-AF7F-F546BF113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798120" y="345960"/>
            <a:ext cx="61639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66"/>
                </a:solidFill>
                <a:latin typeface="comic"/>
              </a:rPr>
              <a:t>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сус Христос възкръсна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Жив е сионский Цар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на небе възлезн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д всички Господар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ада Победител -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ва ни Той яви -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всемогъщ Спасител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верните Сво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57600" y="411480"/>
            <a:ext cx="5106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ебесни колесници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чакват тържество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ангели безбройни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ам пеят във едно: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"Широко отворете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ебесните врата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с радост приемете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оз славен Цар -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Христа"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719280" y="96840"/>
            <a:ext cx="618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Кой е тоз Цар на слава?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Всемогъщият Господ!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Той нам свободно дава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спасение и живот.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Най-славен Той е ратник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илен е във бра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Княз е, и Началник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между небесний ста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1051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83080" y="583200"/>
            <a:ext cx="542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За нас веднъ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тхвърле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хулен и презря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т грешни бе осъде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разпет и умъртвен!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Но в третий д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възкръсна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сионский славен Цар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горе Той възлезна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над всички Господа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9:32:40Z</dcterms:created>
  <dc:creator>TrifonTrifonow</dc:creator>
  <dc:description/>
  <dc:language>en-US</dc:language>
  <cp:lastModifiedBy>TrifonTrifonow</cp:lastModifiedBy>
  <dcterms:modified xsi:type="dcterms:W3CDTF">2005-11-23T20:10:38Z</dcterms:modified>
  <cp:revision>10</cp:revision>
  <dc:subject/>
  <dc:title>Slide 1</dc:title>
</cp:coreProperties>
</file>