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5AD-55E7-4568-973D-EF0C9F93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DEB-8588-4483-B9DC-A10C6C27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205-AED3-4EBA-98D7-30A9D176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50A-03F6-4B5E-A8DE-0E395D96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3DC-FBA6-49E9-BE4E-E1EAD9BF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498-31C6-4645-A48D-43E23C23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C80-AEC5-47EF-ABA5-6B5E247A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6FE-5134-4992-9054-5D2AB82E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AB8-1BA6-4A7A-8B17-9F97DC8A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A5D-52DE-4480-9C8E-945BC2C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44C-B508-4983-AAD7-A4B2047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D50-7341-4CD1-B20C-7D044B1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7A45-B71E-46C9-A910-A1178061B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560" y="1678320"/>
            <a:ext cx="8378280" cy="350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comic"/>
              </a:rPr>
              <a:t>26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чудно е Божието Слово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 удива четем ние там    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чудното дело Христово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дар изкупителен нам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4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31840" y="-579600"/>
            <a:ext cx="9699840" cy="8017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в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пречуд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купен си ти, оправда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обич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крайн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пасител пред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0" y="-671400"/>
            <a:ext cx="9145440" cy="83818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2. Елате при този Спасител,                                                                     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вий скръбни и страдни души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На радостна вест е носител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и нежно Той знай да те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04920" y="-579600"/>
            <a:ext cx="9845640" cy="8017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"/>
              </a:rPr>
              <a:t>                           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в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пречуд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купен си ти, оправда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об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крайн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пасител пред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0240"/>
            <a:ext cx="9150480" cy="69188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3. Прибежище такова ням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нийде по целий свят за нас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 гледайте земна измам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о чуйте спасителен гл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304920" y="-1189080"/>
            <a:ext cx="9845640" cy="9236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вес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пречуд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купен си ти, оправда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обич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крайн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пасител предан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8:55:20Z</dcterms:created>
  <dc:creator>TrifonTrifonow</dc:creator>
  <dc:description/>
  <dc:language>en-US</dc:language>
  <cp:lastModifiedBy>TrifonTrifonow</cp:lastModifiedBy>
  <dcterms:modified xsi:type="dcterms:W3CDTF">2005-11-21T12:02:30Z</dcterms:modified>
  <cp:revision>10</cp:revision>
  <dc:subject/>
  <dc:title>Slide 1</dc:title>
</cp:coreProperties>
</file>