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682-1172-4E3A-A043-8054F67A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CEE-F9DE-4E7A-8A39-38549BFF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957-B03B-4A49-9CF3-FC010026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C42-81BE-4B2D-B115-B79A8797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EA3-66E6-4F14-BD47-4B6439B6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C07-867B-43F3-AED6-1F7B8F6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173-2393-4C7B-9FE4-4B59055B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88B-DAAB-4366-8419-16020ECC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810-CB4C-46AA-9FA7-65D92766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7E0-C8F8-47C9-9A56-8CE5AB8C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2A2-3CEA-4931-AC19-6F3960AF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232-7651-4778-905C-D6980779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492A-AA94-45B1-BE21-03EF95484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65880" y="-120960"/>
            <a:ext cx="9963000" cy="7103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cccff"/>
                </a:solidFill>
                <a:latin typeface="Impact"/>
              </a:rPr>
              <a:t>2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ак безопасно преминахме ние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цяла седмица от работни дни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ак сме дошли във молитвен събор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 поклонение в Божия двор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олко е весел Господният ден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ен от Създателя благословен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ен най-приятен от всичките дн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образ на вечните ни добрини!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6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28720" y="90000"/>
            <a:ext cx="9937800" cy="6676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 като търсим прощение сег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 славното име на Бога Христ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ез този светъл ден на ценен пир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дъхни ни, Боже, Ти душевен мир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й ни почивка от грижа и труд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й ни почивка от грях и от студ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ека ний този ден да осветим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 нашия Бог да го посвет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360"/>
            <a:ext cx="9153360" cy="68590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ред да се ч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днес радостен глас -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лагото слово на нашия Спас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сякъде грешните да убеди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сякъде верните да утеши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Тъй да е всяка седмица денят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оде изминем ние земния път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осле да стигнем в небесния рай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 вечна почивка и радост без кр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9:19:59Z</dcterms:created>
  <dc:creator>TrifonTrifonow</dc:creator>
  <dc:description/>
  <dc:language>en-US</dc:language>
  <cp:lastModifiedBy>TrifonTrifonow</cp:lastModifiedBy>
  <dcterms:modified xsi:type="dcterms:W3CDTF">2005-11-21T12:14:20Z</dcterms:modified>
  <cp:revision>10</cp:revision>
  <dc:subject/>
  <dc:title>Slide 1</dc:title>
</cp:coreProperties>
</file>