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0C7-7E4E-4AD9-B601-98F20D9D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C1C-BA4F-40A5-A277-33CC31B7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282-8D9D-4D18-8E76-4A1815C9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DE5-17A9-448C-98E7-AB092C04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0CC-4A80-4DDA-91E0-08626791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951-1E81-499E-BFDC-6125FFF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B95-A4FA-4E42-A811-04F5A079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41A-3354-42A8-B172-71EDFBB2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7CB-5792-4F5C-861D-0F87CAB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009-43A2-4270-8731-F1CCE4A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DD5-DFB3-4BCA-94F0-3E73859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337-C829-4D6E-A020-F1737AE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8CFA-C224-46D5-AA45-33B0619D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4284720"/>
            <a:ext cx="4859280" cy="35060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видетел вечен, мил си нам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че учил е от твоя бряг Спасителят наш, Господ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11640" y="4816440"/>
            <a:ext cx="4032360" cy="3018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одата ти Христа носи и слуша Го, що Той учи и съветва от кораба народа Си с сладки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0720" y="4772160"/>
            <a:ext cx="4643280" cy="3993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нам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инаг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къпо ще е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е го люби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Господ наш обича го, проповядва там най-много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52:56Z</dcterms:created>
  <dc:creator>TrifonTrifonow</dc:creator>
  <dc:description/>
  <dc:language>en-US</dc:language>
  <cp:lastModifiedBy>TrifonTrifonow</cp:lastModifiedBy>
  <dcterms:modified xsi:type="dcterms:W3CDTF">2005-12-08T11:21:07Z</dcterms:modified>
  <cp:revision>14</cp:revision>
  <dc:subject/>
  <dc:title>Slide 1</dc:title>
</cp:coreProperties>
</file>