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6B8-4FDD-46EA-B3E7-AE1D4696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50B-5DA9-4285-95D8-8D09E804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F7D-3126-451D-833C-BA7DB4F0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BA0-3025-442A-9B3F-AA71717C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372-E7EB-433D-BB8C-44506A8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609-DA62-4B09-A69B-A51859B2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8DB-5E92-4360-9704-C28E27F0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5A1-543C-405A-990B-D5076780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F53-C772-4B0A-AE5D-F87BA3A0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426-A406-4EE0-9051-95B64807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66A-1039-4E39-8046-29FB58B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1B6-6569-47E2-A222-FA3B322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87E9-5CEA-402A-A96F-A8974FA2E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2673360" cy="33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3851280" y="3830760"/>
            <a:ext cx="514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99ff"/>
                </a:solidFill>
                <a:latin typeface="comic"/>
              </a:rPr>
              <a:t>29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да бъде с вас,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довиждане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 вас да е благодатта Му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мирът, и любовта Му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225000" cy="689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4000" y="260280"/>
            <a:ext cx="55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 От лукавий да ви брани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с небесна манна храни!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6000" y="549360"/>
            <a:ext cx="2781360" cy="236376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826920" y="2973240"/>
            <a:ext cx="5329440" cy="393444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 Свои чада да ви счита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од особена защита!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92720" y="501480"/>
            <a:ext cx="3284640" cy="213552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900000" y="2708280"/>
            <a:ext cx="5688000" cy="393444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 Той да бъде ваш Учител, Спътник, Вожд и Покровител! Бог да бъде с вас, довиждане!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8:36:37Z</dcterms:created>
  <dc:creator>TrifonTrifonow</dc:creator>
  <dc:description/>
  <dc:language>en-US</dc:language>
  <cp:lastModifiedBy>TrifonTrifonow</cp:lastModifiedBy>
  <dcterms:modified xsi:type="dcterms:W3CDTF">2005-12-08T09:25:35Z</dcterms:modified>
  <cp:revision>17</cp:revision>
  <dc:subject/>
  <dc:title>Slide 1</dc:title>
</cp:coreProperties>
</file>