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530-42E6-417E-BB09-5D640DC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0F6-2868-4F61-A8D2-5574320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617-B1B0-4F4C-A438-2CB82B03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F74-F365-47CD-833D-5E99B6C7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202-9421-47AC-B207-7ECF92B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7AA-7A1B-436E-A499-F48D66B4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016-E697-4950-A1B3-32434CE9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232-648B-4B23-93B6-6684EC5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DC8-8E49-4BFA-A773-E4B134C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AA8-EE4D-4599-919E-EDF89CA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1D2-A777-4F9C-BDDE-510BA79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BD9-F373-4478-B29E-7A981382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BC1-CC76-408A-A4B0-48836BE0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20" y="1707840"/>
            <a:ext cx="897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мир, прощени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о търсим във све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вират в изобил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у Господа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360" y="2001600"/>
            <a:ext cx="766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всяко престъпл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 всякога гото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с пълно опрощ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илост, и люб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1800" y="2041560"/>
            <a:ext cx="866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омага Той с небесна м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рез бури и въл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кога се борим в тъмна н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рага да побед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35:18Z</dcterms:created>
  <dc:creator>TrifonTrifonow</dc:creator>
  <dc:description/>
  <dc:language>en-US</dc:language>
  <cp:lastModifiedBy>TrifonTrifonow</cp:lastModifiedBy>
  <dcterms:modified xsi:type="dcterms:W3CDTF">2005-11-22T06:49:54Z</dcterms:modified>
  <cp:revision>6</cp:revision>
  <dc:subject/>
  <dc:title>Slide 1</dc:title>
</cp:coreProperties>
</file>