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420-B9CC-4EB9-B12C-68620CE9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787-7624-4817-9284-4EE9B42B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8E9-3036-4F3D-B26A-919B74F7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D19-62A3-47C5-8DE0-B52E30B1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E7D-7743-478F-BE57-E113D48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569-79B9-4562-ABFA-0F02D6D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FBA-2782-44C1-8947-35B9D67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E36-B496-4B5D-8285-343D7EB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781-BA55-4AAA-A6DC-F6A09C2F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0F6-E37D-4254-B432-56D2A24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478-4D2B-4C86-8CED-F6CCDEB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1CB-BE3D-40C4-82D6-EFB0EAC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4F8-2820-467D-A228-43AA8E17C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86280" y="262080"/>
            <a:ext cx="4762440" cy="30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4000" y="4005360"/>
            <a:ext cx="302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comic"/>
              </a:rPr>
              <a:t>27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изкупи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Бог е любовта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658800"/>
            <a:ext cx="3024360" cy="226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692360" y="330048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греха смъртен;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, безпомощ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997360"/>
            <a:ext cx="4249800" cy="3095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370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07172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134136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зкупителя,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паси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752720" cy="33163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24360" y="3749760"/>
            <a:ext cx="4873680" cy="2847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219640" y="54936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покани чрез Словото Си, Той ме покани чрез Духа Си.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6:36:39Z</dcterms:created>
  <dc:creator>TrifonTrifonow</dc:creator>
  <dc:description/>
  <dc:language>en-US</dc:language>
  <cp:lastModifiedBy>TrifonTrifonow</cp:lastModifiedBy>
  <dcterms:modified xsi:type="dcterms:W3CDTF">2005-12-08T07:05:51Z</dcterms:modified>
  <cp:revision>17</cp:revision>
  <dc:subject/>
  <dc:title>Slide 1</dc:title>
</cp:coreProperties>
</file>