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1C4-CA09-4821-8465-B882F513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5FC-76CA-4DC7-BB51-377FB608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FED-7098-4192-8028-670D0E07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600-1831-4540-B954-CEE21C6B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850-6C98-423C-BF6E-9A78D1FC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296-C693-45CF-9010-4A9BB245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C5E-7C3E-46F4-978C-43907F81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6B3-585E-453C-AF10-53125524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444-A3D2-4222-B16E-5D9ACCB2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209-4F7D-40CD-AA2B-8A3B118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568-7221-4F33-8F60-CFA345C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E6C-CDD0-4C65-AE2F-40E47EB3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D74-1CEF-49C8-9E32-A4EE31FF0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4280"/>
            <a:ext cx="914400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0c0c0"/>
                </a:solidFill>
                <a:latin typeface="comic"/>
              </a:rPr>
              <a:t>29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ден на радост свят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молитви и покло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кога вести земят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ния закон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ден пресвят, тър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отдих и покой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ен ден Бо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ай-светъл ден е т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600"/>
            <a:ext cx="914400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Църковните олтар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нес канят вси души: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еца, младежи, стар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Бог там ще утеши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азнува днес земят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еня на радостта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Ликуват небесат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царува любов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060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ворбата на всемир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ивърши Бог в тоз ден.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туй в нас не умир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оз спомен осветен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ославяме със радост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ния Отец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тоз ден, изпълнен с святост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т нашия Твор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140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бравили тревог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почивния ден свят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иемаме от Бог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собна благодат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ден пресвят, тър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отдих и покой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ен ден Бо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ай-светъл ден е той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12:16Z</dcterms:created>
  <dc:creator>TrifonTrifonow</dc:creator>
  <dc:description/>
  <dc:language>en-US</dc:language>
  <cp:lastModifiedBy>TrifonTrifonow</cp:lastModifiedBy>
  <dcterms:modified xsi:type="dcterms:W3CDTF">2005-11-21T12:23:28Z</dcterms:modified>
  <cp:revision>10</cp:revision>
  <dc:subject/>
  <dc:title>Slide 1</dc:title>
</cp:coreProperties>
</file>