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404-FAD8-4554-9FC1-B0F06C81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9B5-F72C-486B-8502-FA62FCE3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009-C25A-490F-A8A1-8D46D0B5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A56-21A8-44C0-B1D0-10A9C22E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10D-D3B2-4D83-A110-98A85D5A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AF2-3DA0-4D85-B0C6-018FED2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19D-99FB-4C72-9537-7430C05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CAD-E684-4553-A956-6595BFD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AA8-654B-4FB3-B4DA-514E7EE5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5CB-1549-461C-9FDF-E0ED622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87D-4770-4D66-887A-C7E8BED6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D59-4D84-4F38-80F1-82BD283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197-B094-418D-9267-C9CF28D1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82200" y="2268000"/>
            <a:ext cx="6651720" cy="46047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99ff"/>
                </a:solidFill>
                <a:latin typeface="comic"/>
              </a:rPr>
              <a:t>78 </a:t>
            </a:r>
            <a:r>
              <a:rPr b="1" lang="en-US" sz="4400" spc="-1" strike="noStrike">
                <a:solidFill>
                  <a:srgbClr val="cc99ff"/>
                </a:solidFill>
                <a:latin typeface="comic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сът се не зна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който Бог наш ще дойд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близък е край - 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й приготвил е Свойт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Той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лава и власт голям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8440" y="429840"/>
            <a:ext cx="63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дим всек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молитва усърдн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ек всеки от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ки час да пребъдва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 щом дойде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с Свойта праведна съдб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зем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4360" y="-25920"/>
            <a:ext cx="5766120" cy="3934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вземе нас Т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тоз свят на трево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вечен пок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оди при Бога.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небесний дом т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Исуса в чертог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век ще бъдем с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41:46Z</dcterms:created>
  <dc:creator>TrifonTrifonow</dc:creator>
  <dc:description/>
  <dc:language>en-US</dc:language>
  <cp:lastModifiedBy>TrifonTrifonow</cp:lastModifiedBy>
  <dcterms:modified xsi:type="dcterms:W3CDTF">2005-11-23T20:59:30Z</dcterms:modified>
  <cp:revision>8</cp:revision>
  <dc:subject/>
  <dc:title>Slide 1</dc:title>
</cp:coreProperties>
</file>