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031-A04A-4244-B17E-9DCFE5CB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7BC-4169-421D-B023-DC0D79D0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0E6-575D-4968-8502-93E79254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AC8-11E1-455B-822C-EFE9020A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F55-5534-4252-BA2A-F30A42A5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E70-AC33-475F-A735-55BA2DEE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EDC-5EB8-4B7B-B460-55CBAB47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C6C-A56B-4231-B2B3-8FD8C250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BAB-3751-4ED7-A6A3-B76A41C2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443-00EA-414B-80BB-1839B603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55B-C1A1-4849-BD96-D3D1E96D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F7D-256B-4AA7-A4F9-C6844172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2503-699A-4970-A998-DBAE8219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0000" y="-636840"/>
            <a:ext cx="6821640" cy="496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6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Тиха нощ! Свята нощ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Цяла зем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я е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в тишина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Виж, витлеемската светла звезд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мъдреци води от чужда стран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[:дето Христос се роди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67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238400" y="-27720"/>
            <a:ext cx="8882640" cy="3141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Тиха нощ! Свята нощ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есен сега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на похвал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ангели пеят със радостен глас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вест за спасение донасят до нас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[:"Ето, Спасител дойде!"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85960" y="-27720"/>
            <a:ext cx="9701280" cy="3141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Тиха нощ! Свята нощ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Цяла земя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ей с веселба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очит на Бога нек всеки даде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че между нас днес Спасител дойде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[:Мир за всегда на земя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9:20:22Z</dcterms:created>
  <dc:creator>TrifonTrifonow</dc:creator>
  <dc:description/>
  <dc:language>en-US</dc:language>
  <cp:lastModifiedBy>TrifonTrifonow</cp:lastModifiedBy>
  <dcterms:modified xsi:type="dcterms:W3CDTF">2005-11-22T07:25:54Z</dcterms:modified>
  <cp:revision>7</cp:revision>
  <dc:subject/>
  <dc:title>Slide 1</dc:title>
</cp:coreProperties>
</file>