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FB86-63E3-4D6D-8753-001C4D81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06B-9C47-4F38-A8E1-1572EB9A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4E0-EC29-48D1-AF9A-E678842E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17A7-4697-4D96-8254-F1CEA909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8D51-683F-4E19-AF6B-D546B109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1A56-8CCC-437D-BCEB-25C353A4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578-C065-4101-90B9-D7F1892C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FA4-CE39-4EFC-A5D4-9481A613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14F-1C4A-4A14-9992-1DD16E70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3012-D0C7-4276-B3E8-3740CA61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7334-A860-4CF5-9AA3-7065DCE8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586-2B91-41AB-89A8-8074F152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FAA0-7EA3-4161-BF68-B25514165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280" y="1123560"/>
            <a:ext cx="8396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3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Едно чудесно място знам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ърцето ми копней за там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лушам гласа на Бога мой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в училището съботно!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8760" y="2041560"/>
            <a:ext cx="8469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Там запознах се с Бога мой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 Той приема ме за Свой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Аз вяра черпя и покой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в училището съботно!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1640" y="1857240"/>
            <a:ext cx="8103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Ела и ти, послушай с нас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лова от милия Исус!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одкрепяй се от Словото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в училището съботно!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6:00:52Z</dcterms:created>
  <dc:creator>TrifonTrifonow</dc:creator>
  <dc:description/>
  <dc:language>en-US</dc:language>
  <cp:lastModifiedBy>TrifonTrifonow</cp:lastModifiedBy>
  <dcterms:modified xsi:type="dcterms:W3CDTF">2005-11-21T12:31:52Z</dcterms:modified>
  <cp:revision>6</cp:revision>
  <dc:subject/>
  <dc:title>Slide 1</dc:title>
</cp:coreProperties>
</file>