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505-BB65-4602-9166-3F1E53C8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B2E-01E9-446D-A1E5-2CC7570B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961-3560-49B9-9B9B-95EF157F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C7B-953E-49C5-8F29-4BC9EBA1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CD2-C252-40B7-8CEF-9837570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432-A7E5-44C4-9A6A-EA33E769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420-EA5E-4AB3-A7CB-1C63E1C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633-8002-4C4A-8F5A-BA85851A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81E-B230-4EF4-8062-97EDF010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B43-5C2E-4648-844B-3FC5057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B1D-1B82-498D-9EFB-A08AB0E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DDA-26BF-4317-8308-35B20BA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708-9429-4B90-AF36-77A3F7D5E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53920" y="128520"/>
            <a:ext cx="6432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</a:t>
            </a:r>
            <a:r>
              <a:rPr b="1" lang="bg-BG" sz="4400" spc="-1" strike="noStrike">
                <a:solidFill>
                  <a:srgbClr val="bbe0e3"/>
                </a:solidFill>
                <a:latin typeface="comic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еч на вратата Бог стои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кръста що за нас умря;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дойде да ни събере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отведе в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47760" y="360"/>
            <a:ext cx="805536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знаци вред около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се тази истина вестят: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"Ще дойде скоро славний Княз."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ела ни да блестя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034640" y="189720"/>
            <a:ext cx="674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Чада на Бога, да не сп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до последния си ч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бъдем будни и да бди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ъй да посрещнем Спас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1:02:58Z</dcterms:created>
  <dc:creator>TrifonTrifonow</dc:creator>
  <dc:description/>
  <dc:language>en-US</dc:language>
  <cp:lastModifiedBy>TrifonTrifonow</cp:lastModifiedBy>
  <dcterms:modified xsi:type="dcterms:W3CDTF">2005-11-23T21:16:10Z</dcterms:modified>
  <cp:revision>4</cp:revision>
  <dc:subject/>
  <dc:title>Slide 1</dc:title>
</cp:coreProperties>
</file>