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FC3-E684-4C2A-9015-553832A6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6E5-444F-4066-A565-AECE49FC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614-AD14-4C09-9215-30350F97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32D-73AB-4F13-AA6B-8F92B055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680-07BF-4610-A329-353AAEA5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C91-248F-4B41-9796-B6F58511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E80-1743-41EC-BE7B-37D1DD54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8D2-FB39-4A6A-AC21-370ED706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3B9-ABA9-4B8E-887E-2BE7FF89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426-DF80-47AA-B851-C7A8D47F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497-7732-4868-B2BF-35D04C6B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DD8-B764-47D7-8E54-3712C11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CAED-57AA-4571-ADC0-9BDAAFCA2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075760"/>
            <a:ext cx="9147240" cy="11000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comic"/>
              </a:rPr>
              <a:t>2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бичам да приказвам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за вечните неща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на грешни да показвам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Спасителя Христа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Предметът на таз повест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е вечната любов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акъв предмет друг няма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оз свят - ни стар, ни н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6480"/>
            <a:ext cx="9144000" cy="66744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колко радост има</a:t>
            </a:r>
            <a:br>
              <a:rPr sz="4800"/>
            </a:b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аз повест най-люби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ткрива на все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1735920"/>
            <a:ext cx="9210600" cy="1033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аз повест ми е мила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най-истинна от вси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душа ми влива сила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И с радост я роси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За мене Той ще стори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най-чудните неща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ам всеки ще намери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безброй съкровища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150480"/>
            <a:ext cx="9144000" cy="7162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колко радост има</a:t>
            </a:r>
            <a:br>
              <a:rPr sz="4800"/>
            </a:b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аз повест най-люби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ткрива на все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2098440"/>
            <a:ext cx="9147240" cy="11061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И горе с хор небес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кога във век веков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ще славим с нова песен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се тази стара повест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ще чу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e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м в Божи храм -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сам Той за Своя почест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ще я разказва та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87840"/>
            <a:ext cx="9144000" cy="7040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колко радост има</a:t>
            </a:r>
            <a:br>
              <a:rPr sz="4800"/>
            </a:b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аз повест най-люби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ткрива на все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9:05:53Z</dcterms:created>
  <dc:creator>TrifonTrifonow</dc:creator>
  <dc:description/>
  <dc:language>en-US</dc:language>
  <cp:lastModifiedBy>TrifonTrifonow</cp:lastModifiedBy>
  <dcterms:modified xsi:type="dcterms:W3CDTF">2005-11-20T14:51:38Z</dcterms:modified>
  <cp:revision>8</cp:revision>
  <dc:subject/>
  <dc:title>Slide 1</dc:title>
</cp:coreProperties>
</file>