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451-3157-45F5-9CB8-FAFC793A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D0F-9F36-4644-BA68-35027975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C36-4A3F-4EEC-97FD-9240C685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AAB-A0AA-4B84-8BA7-18ED0DCD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D10-996F-474B-AD42-5719F20E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2A7-417B-4097-ADBC-74EE9FDA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84B-0749-4CAF-ABD9-84AC2072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074-0015-433B-827F-05B47FE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7E7-D71D-4B00-AABD-98295B9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417-5582-456E-943D-388DF79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382-B37D-41CA-BCD6-29C6919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87C-5906-4184-A883-08E7655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6BC-B802-4B27-B4C4-993F7207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06920" y="14760"/>
            <a:ext cx="7206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4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, съботно уч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ожие свет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оказваш ми към Бога дру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радваш сърце и у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118160" y="-12240"/>
            <a:ext cx="83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теб уча аз, че зарад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ърпял Спасителят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кръста смърт, от грешни сра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а дал спасение н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824040" y="-12240"/>
            <a:ext cx="655092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лагодарим Ти, Отче наш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й-верен Си наш Страж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и и до днес с любов сег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ържиш ни при Хри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16800" y="4524840"/>
            <a:ext cx="701424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, съботно уч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ожие светилище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душата ми ти радост вле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пътя ми все гре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27:03Z</dcterms:created>
  <dc:creator>TrifonTrifonow</dc:creator>
  <dc:description/>
  <dc:language>en-US</dc:language>
  <cp:lastModifiedBy>TrifonTrifonow</cp:lastModifiedBy>
  <dcterms:modified xsi:type="dcterms:W3CDTF">2005-11-23T17:43:39Z</dcterms:modified>
  <cp:revision>5</cp:revision>
  <dc:subject/>
  <dc:title>Slide 1</dc:title>
</cp:coreProperties>
</file>