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FA1-7220-497C-896F-F5CB7297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90D-306D-469F-9ACF-194E923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33B-C0DC-47CA-A0D9-AC6F7392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AA-ABA7-42B5-A9C4-EAC20C5F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873-F4A0-4FD5-8622-31E5D87B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49D-C71E-43F9-8234-F6E9898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FE-1997-45F0-8ADE-4151DB9E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939-4F67-4B37-B369-9ABD3A6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484-7FA3-4A6E-B0E7-7486368E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1FA-255F-41ED-8A0B-D51901D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4FB-1164-4C06-8CAE-66D0D5C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C20-46AD-4328-9CAC-ACFD7A2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C2F-66F9-4540-B015-C5E8CEA5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432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360" y="134640"/>
            <a:ext cx="62276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      </a:t>
            </a: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72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анен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във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кръв потъ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тръни на гл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подсмих Той е ста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хорската мълв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о друго Му ост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свен срам и позор?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ъй - хулен и без слава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е мил на моя вз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7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03200" y="117360"/>
            <a:ext cx="574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горест без отрад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з хулни вик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, Господи, пострад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мойте грех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и Си мой Спасител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 мойто място взе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ето ме просите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Твоите ноз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547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01640" y="190440"/>
            <a:ext cx="65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 лице от радост сияй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крия си чел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ъв Твойто в кръв обля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ободено тело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ебе да просл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, верен Теб докрай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смърт аз да забр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Боже мой, не 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55:36Z</dcterms:created>
  <dc:creator>TrifonTrifonow</dc:creator>
  <dc:description/>
  <dc:language>en-US</dc:language>
  <cp:lastModifiedBy>TrifonTrifonow</cp:lastModifiedBy>
  <dcterms:modified xsi:type="dcterms:W3CDTF">2005-11-23T19:09:56Z</dcterms:modified>
  <cp:revision>5</cp:revision>
  <dc:subject/>
  <dc:title>Slide 1</dc:title>
</cp:coreProperties>
</file>