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4806-BF88-4DC9-8902-24AF5049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81C5-036B-482C-8195-0B556E4B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1CA-29A8-49B3-8F9A-EEFDCC05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B9B-74AD-4C8F-ACC0-FB532FE2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830-C7AA-45C9-8920-000D8DA9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415-C13E-4A6A-9C7E-4D363C68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A5D-7BAE-458C-BFAE-CFA1D1F5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F96-DC8D-45B3-812F-00887B45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A5F-13DE-4825-A7D5-8B5B1FF1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FC5-EEF3-49FA-98EA-C34ACF6F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8D69-D711-4EAF-AF23-5C605CD6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8685-2CFD-4284-97DB-D4CE0B51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DA93-5603-4D03-9EFE-975F31AD2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788000" y="189000"/>
            <a:ext cx="4356000" cy="74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  </a:t>
            </a: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23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, работи прилежно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ързай, доде трепти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щ слънчев лъч тъй нежно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горе в висоти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одето слънце грее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ързай ти в пътя си;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ей, веч нощта тъмнее -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ързай, рабо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27640" y="333360"/>
            <a:ext cx="4716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, работи прилежно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ъв силний слънчев пек;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след делото успешно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чакай отдих лек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Нек' таз минута златна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да мине в подвиг свят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 труд, с вяра непоклатна дните да лет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48360" y="158760"/>
            <a:ext cx="392436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, работи прилежно,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денят ощ' дор светлей; докат' небе безбрежно              още руменей!                          Бързай преди лъч сетен               се скрий зад планини,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изчезне кат' последен                  в нощни тъмнини!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3:36:21Z</dcterms:created>
  <dc:creator>TrifonTrifonow</dc:creator>
  <dc:description/>
  <dc:language>en-US</dc:language>
  <cp:lastModifiedBy>TrifonTrifonow</cp:lastModifiedBy>
  <dcterms:modified xsi:type="dcterms:W3CDTF">2005-12-01T20:41:27Z</dcterms:modified>
  <cp:revision>8</cp:revision>
  <dc:subject/>
  <dc:title>Slide 1</dc:title>
</cp:coreProperties>
</file>