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85A-7E29-49D3-9F84-1E2EC968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FB6-29DB-4549-BAA2-EE2CF6B7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DD5-BEB9-4FDD-965C-3AAA3A96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E39-BCEB-48A5-99B0-8ECE0895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4F7-B5ED-4C54-A4D2-2BF14D50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EF0-1A73-4F45-9468-2053D153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4DF-7F95-4301-999D-9B58E06B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26F-02F9-4674-8A4F-F038D073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A06-CEDB-4802-91CE-33B87BD6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FB0-953B-43EE-BA1C-15E78AC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081-B837-48EE-BC61-240EF8A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F83-F1C3-4A96-9F36-FC4A2CFF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EF3D-6B7A-46D1-96BA-14547270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3280" y="-100080"/>
            <a:ext cx="4500720" cy="10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3399"/>
                </a:solidFill>
                <a:latin typeface="comic"/>
              </a:rPr>
              <a:t>23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вое, Христе, е делото,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в което работим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И защото е Твое, то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не ще да загине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Зъ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рното трябва да умре, преди то злак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да свий, простре.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И в пазвата на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земна твърд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живот намира там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чрез смърт;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и в земна твърд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живот намира в смър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529272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Ти, Спасителю, страда, преди да стигнеш сам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небесний дом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Свои чада след Теб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викаш т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, Боже, част на всички нас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в страданията на наший Спас; води ни в Твойта светлина, макар през смъртна долина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към светлина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ез мрак към светли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44280"/>
            <a:ext cx="4429440" cy="88678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Ти бе скрит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черна пръст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цял свят за да живей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ися Ти горко и на кръст, нас радост да ог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дай по целий земен шар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 знаят Тебе, своя Ца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естители на Твоя път прати и нас във някой къ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естител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ати нас в някой кът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20:52Z</dcterms:created>
  <dc:creator>TrifonTrifonow</dc:creator>
  <dc:description/>
  <dc:language>en-US</dc:language>
  <cp:lastModifiedBy>TrifonTrifonow</cp:lastModifiedBy>
  <dcterms:modified xsi:type="dcterms:W3CDTF">2005-12-01T20:28:46Z</dcterms:modified>
  <cp:revision>7</cp:revision>
  <dc:subject/>
  <dc:title>Slide 1</dc:title>
</cp:coreProperties>
</file>