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6B3-FB43-4DAC-BD07-2226B712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FEF-09C0-4329-B319-B29FD7F0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501-F536-4825-BAC3-F7C2ABE8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3C9-1158-4756-A06E-1FFA4A2D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750-C222-4E3C-ADD3-DAB07237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6E7-2495-4825-B435-70F47379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971-1D1A-4EAE-A2EE-02A918E2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5CA-785E-435B-9E80-5E6C80F6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0B9A-D0B9-41FC-9D6F-7BF01839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794-E728-4BE8-9B11-6C7E1577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85A-7A98-40CA-9121-D0A1C905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D11-B1FA-45CE-BE45-F08EE7D0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7319-5688-4CB3-8F19-AEE36556C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05120" y="2971800"/>
            <a:ext cx="571500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ус - туй чудесно им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ълно е със благости !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ва то във всяко врем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ир любов и радости !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848720" y="6095880"/>
            <a:ext cx="5904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 / 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523880" y="2971800"/>
            <a:ext cx="637236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[: Славно е, славно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се вярва в туй име ! 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905120" y="2971800"/>
            <a:ext cx="571500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в Исусовото им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ще вървим ний все напред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рез Него ще победим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ш'те врагове напред !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48720" y="6095880"/>
            <a:ext cx="5904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/ 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523880" y="2971800"/>
            <a:ext cx="637236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[: Славно е, славно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се вярва в туй име ! 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9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905120" y="2971800"/>
            <a:ext cx="571500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лко скъпо за нас им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 това на наший Спас,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греха ни то избавя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е силен щит за нас !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848720" y="6095880"/>
            <a:ext cx="5904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 / 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523880" y="2971800"/>
            <a:ext cx="637236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[: Славно е, славно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се вярва в туй име ! 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8088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828800" y="3581280"/>
            <a:ext cx="571500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, възпейте вий туй име,</a:t>
            </a:r>
            <a:endParaRPr b="0" i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азгласете го навред,</a:t>
            </a:r>
            <a:endParaRPr b="0" i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окле целий свят го чуе</a:t>
            </a:r>
            <a:endParaRPr b="0" i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ще му даде ответ !</a:t>
            </a:r>
            <a:endParaRPr b="0" i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48720" y="6095880"/>
            <a:ext cx="5904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 / 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523880" y="2971800"/>
            <a:ext cx="637236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[: Славно е, славно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се вярва в туй име ! 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fonTrifonow</cp:lastModifiedBy>
  <dcterms:modified xsi:type="dcterms:W3CDTF">2005-11-22T07:01:0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