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A10-F33A-4676-9D78-858EC7D0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924-3451-408A-807A-C267C998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026-632D-4532-9550-A4DDF4CD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1CF-CD46-4D0B-BDCC-30471CDD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D7E-5E95-4BC8-881B-469858C9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25A-1E9A-4353-B3FB-BF313F54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470-5A07-4AA6-8893-BD97E07E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EC7-D89D-446C-8653-5925727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88E-2634-46C0-B424-5BBB40B8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EF4-6059-47AB-B617-EF78319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ACC-15FE-4740-AB97-3AC9DE6F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255-A6C1-4F18-B7D8-36CADD7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D686-DEF4-461A-8B29-A9E50998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3640" y="25560"/>
            <a:ext cx="8245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ff"/>
                </a:solidFill>
                <a:latin typeface="comic"/>
              </a:rPr>
              <a:t>76</a:t>
            </a:r>
            <a:r>
              <a:rPr b="1" lang="bg-BG" sz="4400" spc="-1" strike="noStrike">
                <a:solidFill>
                  <a:srgbClr val="808080"/>
                </a:solidFill>
                <a:latin typeface="comic"/>
              </a:rPr>
              <a:t>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зная, жив е Господ мой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приготвил е и място м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Корона славна дава Той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всек, в кръвта Му що е спас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076400" y="44640"/>
            <a:ext cx="733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Него се надявам аз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нежно кани ме сега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чувам благия Му глас: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"Ела, да бъдеш с Мен всегда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02880" y="116640"/>
            <a:ext cx="73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Ще дойде скоро Той, аз знам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че времето не е далеч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когато ще съм горе там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да пея с ангели наве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0:16:45Z</dcterms:created>
  <dc:creator>TrifonTrifonow</dc:creator>
  <dc:description/>
  <dc:language>en-US</dc:language>
  <cp:lastModifiedBy>TrifonTrifonow</cp:lastModifiedBy>
  <dcterms:modified xsi:type="dcterms:W3CDTF">2005-11-23T20:32:24Z</dcterms:modified>
  <cp:revision>10</cp:revision>
  <dc:subject/>
  <dc:title>Slide 1</dc:title>
</cp:coreProperties>
</file>