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3AB0-9615-48E1-A652-095BA436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DBA-9BDA-41E5-936B-B776DF24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F0E-90EC-4C6A-ADCD-55144C57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498-6565-47A2-B603-AEE25247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CE8-1039-45EF-9ED2-950DFE22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B92A-5192-4DD3-A6AA-0E952664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37A4-1AE9-4F30-8E27-949E07B5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4391-DDD7-4C99-80EE-73B052CA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77A8-F29A-43B1-BA92-B54CF458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007F-BD92-4EE9-B6E6-BA5FD192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2FD-83F0-4160-B218-2750BEF4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CCC5-7083-455D-A6D2-C5273B1A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6740-94C4-49CB-BF2D-0FA1E49A8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94560" cy="5021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40120" y="3213000"/>
            <a:ext cx="6095880" cy="72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comic"/>
              </a:rPr>
              <a:t>                         </a:t>
            </a:r>
            <a:r>
              <a:rPr b="1" lang="en-US" sz="4000" spc="-1" strike="noStrike">
                <a:solidFill>
                  <a:srgbClr val="969696"/>
                </a:solidFill>
                <a:latin typeface="comic"/>
              </a:rPr>
              <a:t>   </a:t>
            </a:r>
            <a:r>
              <a:rPr b="1" lang="bg-BG" sz="4000" spc="-1" strike="noStrike">
                <a:solidFill>
                  <a:srgbClr val="969696"/>
                </a:solidFill>
                <a:latin typeface="comic"/>
              </a:rPr>
              <a:t>63</a:t>
            </a:r>
            <a:r>
              <a:rPr b="1" lang="en-US" sz="4000" spc="-1" strike="noStrike">
                <a:solidFill>
                  <a:srgbClr val="bbe0e3"/>
                </a:solidFill>
                <a:latin typeface="Monotype Corsiv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На Господа Христа благодатта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любовта на Отца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и общението на Дух Святи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да е с нас всички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със нас всички! Ами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5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8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8:13:40Z</dcterms:created>
  <dc:creator>TrifonTrifonow</dc:creator>
  <dc:description/>
  <dc:language>en-US</dc:language>
  <cp:lastModifiedBy>TrifonTrifonow</cp:lastModifiedBy>
  <dcterms:modified xsi:type="dcterms:W3CDTF">2005-11-23T18:19:31Z</dcterms:modified>
  <cp:revision>3</cp:revision>
  <dc:subject/>
  <dc:title>Slide 1</dc:title>
</cp:coreProperties>
</file>