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B37-853C-47ED-8AF7-D1E47749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A7F-CEC3-460B-8D9E-BCFFB5FD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DA1-6025-436E-B0AB-66588BFF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6FC-B897-4FF8-A937-ADA8656D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25A-FD39-4876-8296-73DD20C5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4E6-9B6C-4FCF-9093-3126DF64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072-D3A7-4DE9-A468-3A138646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C20-91DB-4309-AA5E-A7487F57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FA5-EAB6-486B-BEBA-AC1B5056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672-90DA-483F-978C-706F2386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6AC-2D10-4D6A-920D-311B49D6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4A9-F941-481A-950F-03CFD9AB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27AF-3106-4370-B575-4A790FDBE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635280" cy="89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808080"/>
                </a:solidFill>
                <a:latin typeface="comic"/>
              </a:rPr>
              <a:t>23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Тези, що със сълзи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добро семе сеят,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с радост ще пожънат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горе в небеса!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Снопи те ще носят,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още и ще пеят,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и във век ще гледат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славни чуд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86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84720" y="549360"/>
            <a:ext cx="385128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808080"/>
                </a:solidFill>
                <a:latin typeface="comic"/>
              </a:rPr>
              <a:t>Прип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ез, що с сълзи се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 радост ще пожъна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3280" y="158760"/>
            <a:ext cx="4356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Рано сутрин сейте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вий доброто семе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ейте, дор удари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най-последний час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Вестта разгласете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между всяко племе -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лавна ще да бъде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жетвата тога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8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84720" y="549360"/>
            <a:ext cx="385128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808080"/>
                </a:solidFill>
                <a:latin typeface="comic"/>
              </a:rPr>
              <a:t>Прип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ез, що с сълзи се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 радост ще пожъна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16360" y="-27000"/>
            <a:ext cx="4427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Щом ни Бог изпраща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ние навред ще ходим! Обещал, сполука -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ееме безспир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ой ни благославя,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ние пък Му носим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наш'те скъпоценни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ове във мир!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8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4720" y="549360"/>
            <a:ext cx="385128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808080"/>
                </a:solidFill>
                <a:latin typeface="comic"/>
              </a:rPr>
              <a:t>Прип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ез, що с сълзи се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 радост ще пожъна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2:54:12Z</dcterms:created>
  <dc:creator>TrifonTrifonow</dc:creator>
  <dc:description/>
  <dc:language>en-US</dc:language>
  <cp:lastModifiedBy>TrifonTrifonow</cp:lastModifiedBy>
  <dcterms:modified xsi:type="dcterms:W3CDTF">2005-12-01T20:35:39Z</dcterms:modified>
  <cp:revision>11</cp:revision>
  <dc:subject/>
  <dc:title>Slide 1</dc:title>
</cp:coreProperties>
</file>