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2B9-8E36-46A2-8553-AB4F55E8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7F3-C911-4A30-ABA0-E997786A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9F6-CC90-48D6-921D-C55BC9BA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655-7D58-497A-B955-3002C1F0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252-C51D-4933-9D16-9C77F010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CB1-2BD5-4605-9D47-315DBBE2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265-6E3E-4778-8C8B-0DBDBCE7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9DC-4DDA-4E7A-901E-FCEB0C90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32A-3693-45E6-929F-52E2FB63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9AA-02BE-4F62-8B92-3951611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BE4-E247-4415-B6C5-B98F1E3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DD6-9222-4419-8A2B-31122854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88CB-AD07-47B9-9E9A-F3A31C188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3520" y="1707840"/>
            <a:ext cx="7536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О, съботно училищ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Божие светилищ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показваш ми към Бога друм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радваш сърце и у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3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6480" y="1930320"/>
            <a:ext cx="8771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В теб уча аз, че зарад нас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търпял Спасителят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на кръста смърт, от грешни срам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та дал спасение н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3680" y="204156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Благодарим Ти, Отче наш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най-верен Си наш Страж!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Ти и до днес с любов сега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държиш ни при Хри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96760" y="2041560"/>
            <a:ext cx="7288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О, съботно училищ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Божие светилище!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В душата ми ти радост влей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и в пътя ми все гр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16:48Z</dcterms:created>
  <dc:creator>TrifonTrifonow</dc:creator>
  <dc:description/>
  <dc:language>en-US</dc:language>
  <cp:lastModifiedBy>TrifonTrifonow</cp:lastModifiedBy>
  <dcterms:modified xsi:type="dcterms:W3CDTF">2005-09-06T06:22:12Z</dcterms:modified>
  <cp:revision>3</cp:revision>
  <dc:subject/>
  <dc:title>Slide 1</dc:title>
</cp:coreProperties>
</file>