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FBC-57B1-49A5-AED5-E75043AE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0F2E-65A1-4483-BDD5-29931C02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7C71-3369-4318-B1A9-B0D222D7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8A05-C9B9-4110-A838-F462E687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B02-0CA9-4C9E-9A1A-B27EBAC3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EDF-60A2-4A0A-AACE-E77CC3C2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C4C-F900-4FDB-A5CD-23ED16D5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037-0E08-43D6-B7AD-7CEC7904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711D-A0AE-4CB9-97E0-3B0C1009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32BF-4F6F-4928-9EE7-86B29828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3FF-5D56-44A9-9CFC-D3445D12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2E46-93F2-4136-A398-252E10EF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85FB-44D8-4D35-8867-B8CB91EA4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9320"/>
            <a:ext cx="475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Исус - туй чудесно и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пълно е със благост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Дава то във всяко вре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мир, любов и радост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1708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0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1532880"/>
            <a:ext cx="46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[: Славно е, славно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да се вярва в туй име!: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874440"/>
            <a:ext cx="493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Във Исусовото и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ще вървим ние все напред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чрез Него ще победи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наште врагове навред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532880"/>
            <a:ext cx="46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[: Славно е, славно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да се вярва в туй име!: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840960"/>
            <a:ext cx="507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Колко скъпо за нас и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е това на наший Сп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от греха ни то избав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и е силен щит за нас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532880"/>
            <a:ext cx="46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[: Славно е, славно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да се вярва в туй име!: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14040"/>
            <a:ext cx="507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О, възпейте вий туй им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разгласете го навред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докле целий свят го чу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и ще му даде ответ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1532880"/>
            <a:ext cx="46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[: Славно е, славно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да се вярва в туй име!: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6:56:00Z</dcterms:created>
  <dc:creator>TrifonTrifonow</dc:creator>
  <dc:description/>
  <dc:language>en-US</dc:language>
  <cp:lastModifiedBy>TrifonTrifonow</cp:lastModifiedBy>
  <dcterms:modified xsi:type="dcterms:W3CDTF">2005-11-22T06:57:13Z</dcterms:modified>
  <cp:revision>4</cp:revision>
  <dc:subject/>
  <dc:title>Slide 1</dc:title>
</cp:coreProperties>
</file>