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6A2-92FF-4D1C-A338-3E0C134F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222-DD7C-419F-B39C-7B32F2FB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CD6-5E35-48EF-B322-FE8231EA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A06-DBA4-41A4-BFE0-32E75419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523-B700-4B09-B190-C999C2B9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2B4-BF66-40C7-ACC6-2834ABFB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4D2-3242-4A58-A3E5-4F8B44CE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0B8-A423-4248-811E-2DA2AE1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CF8-2FA9-46A0-9826-3CFB009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01E-DCE6-4E03-828E-52817F1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FB2-3100-4CDD-ADF2-6E5A7F8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989-5EDB-4483-9016-D676F5C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A99E-4105-45A1-BFE3-1082A2F2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7040" y="1678320"/>
            <a:ext cx="950580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ccff"/>
                </a:solidFill>
                <a:latin typeface="comic"/>
              </a:rPr>
              <a:t>30</a:t>
            </a:r>
            <a:r>
              <a:rPr b="1" lang="bg-BG" sz="4800" spc="-1" strike="noStrike">
                <a:solidFill>
                  <a:srgbClr val="99ffcc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ошел е пак денят на свят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о от начало Бог избра за Свой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Свободни днес от светските дела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принесем ние жертва на хва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4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59920" y="2001600"/>
            <a:ext cx="91720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а Бога този ден да посвети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се научим вярно да вървим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В небесен път Бог да благово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и да приеме нашите молб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2720" y="19440"/>
            <a:ext cx="9291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ебесни Отче, в тоз опасен пъ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бъди Вожд наш през земния живо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е хвалим Твойта Бащин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бъде Тебе слава в век век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9:26Z</dcterms:created>
  <dc:creator>TrifonTrifonow</dc:creator>
  <dc:description/>
  <dc:language>en-US</dc:language>
  <cp:lastModifiedBy>TrifonTrifonow</cp:lastModifiedBy>
  <dcterms:modified xsi:type="dcterms:W3CDTF">2005-11-21T12:29:05Z</dcterms:modified>
  <cp:revision>7</cp:revision>
  <dc:subject/>
  <dc:title>Slide 1</dc:title>
</cp:coreProperties>
</file>