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21F-A7ED-45D3-A85A-E71402DD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41D-3C89-4A9F-986C-831B2DD3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8B1-FDAC-4CDE-ABF8-639A00AC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AC0-9DCD-49F7-8121-BAB95D0F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E27-74E8-4855-AA66-6137E0A7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8FE-24E6-4342-BCDF-4E1D815A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A88-545C-444C-8E08-33900897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EAB-D1D6-41C7-9C80-5563A4BE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FAA-AAF2-43C6-8C85-DFF50D3A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8FD-662F-46BB-BBD8-E4A30A39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2FE-55F0-4848-B2B1-2EDBE3B1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CBC-769B-44EE-A879-8647B2C1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0B80-9728-4B65-A842-1FB299F3B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30240"/>
            <a:ext cx="5329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2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ривет теб, красиво утро! Божие слънце пак изгря! Погледнете колко чудно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зарява, без да спре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Върховете заблестяват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чудна, нова светлин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без думи изявяват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[: на Твореца любовта! :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5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8000" y="2781360"/>
            <a:ext cx="5473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защо да сме унили?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аший Бог не е ли жив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али в Него сме се скрил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Стълба Божи от Хорив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сички скърби и страдания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един ден ще имат край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рез тез трудни изпитания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[: Той ни води в Божи рай! :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932360" y="404640"/>
            <a:ext cx="3887640" cy="291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ffcc">
                <a:alpha val="50000"/>
              </a:srgbClr>
            </a:outerShdw>
          </a:effectLst>
        </p:spPr>
      </p:pic>
    </p:spTree>
  </p:cSld>
  <p:transition advTm="5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14280"/>
            <a:ext cx="39592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ffcc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3419640" y="2637000"/>
            <a:ext cx="5508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ъщо тъй след нощния мрак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а греха и на смъртт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ще изгрее слънцето пак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а живот във любовта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ам Исус е това Слънце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любовта Му е спасение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възрадвайте се всичк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[: пейте Му хваление! :]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9:28:09Z</dcterms:created>
  <dc:creator>TrifonTrifonow</dc:creator>
  <dc:description/>
  <dc:language>en-US</dc:language>
  <cp:lastModifiedBy>TrifonTrifonow</cp:lastModifiedBy>
  <dcterms:modified xsi:type="dcterms:W3CDTF">2005-12-08T09:55:08Z</dcterms:modified>
  <cp:revision>13</cp:revision>
  <dc:subject/>
  <dc:title>Slide 1</dc:title>
</cp:coreProperties>
</file>