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0D5-E30A-48D6-91E7-2CB44D36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332-6DE2-4579-BF4A-DC36FF6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236-B947-4154-9742-85108583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F81-80D8-446B-955C-72F39613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8F8-89E6-42F7-A4D6-0B24E31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7BF-0FDB-4F10-AA5F-749D290E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0D3-C8AA-4B04-BA33-FFE8845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09C-8B45-47E1-BB99-417F790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D3B-5030-43CD-A571-E887EEE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158-C624-4596-9621-3407D34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11C-445D-4CC5-9416-C90AE30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21C-D749-4093-8D99-E161F3D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9708-F42F-468F-931E-1B26D10E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278000"/>
            <a:ext cx="9144000" cy="9417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Bookman Old Style"/>
              </a:rPr>
              <a:t>                    </a:t>
            </a:r>
            <a:r>
              <a:rPr b="1" lang="bg-BG" sz="4000" spc="-1" strike="noStrike">
                <a:solidFill>
                  <a:srgbClr val="bbe0e3"/>
                </a:solidFill>
                <a:latin typeface="Bookman Old Style"/>
              </a:rPr>
              <a:t>3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бота блаже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святи поко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и си славен спом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едемски рай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как те обича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ен на мир, святост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щото донасяш небесна радос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9000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86280" y="664200"/>
            <a:ext cx="100566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Ела, влез в сърце м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святи ми Гост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апомняш ми скром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райска хубост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буждаш надежда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вечен живот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що Бог обещал е за Своя наро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73280" y="-304560"/>
            <a:ext cx="7686360" cy="74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еб благодар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любезни ми Спа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деня на почи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с радостен гла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че за мен Си седмий д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благословил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спомен навеки Си го освет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30312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405080"/>
            <a:ext cx="9144000" cy="97063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ега кат живе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световния кра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иготви ни, Бо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небесний рай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ам Тебе да хвал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 ханаански език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оменени славно в небесния л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07:54Z</dcterms:created>
  <dc:creator>TrifonTrifonow</dc:creator>
  <dc:description/>
  <dc:language>en-US</dc:language>
  <cp:lastModifiedBy>TrifonTrifonow</cp:lastModifiedBy>
  <dcterms:modified xsi:type="dcterms:W3CDTF">2005-11-21T13:31:12Z</dcterms:modified>
  <cp:revision>19</cp:revision>
  <dc:subject/>
  <dc:title>Slide 1</dc:title>
</cp:coreProperties>
</file>