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11A-3B98-415D-B378-B8E307B9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E8B-DE61-46B8-9353-1D7AAAC9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776-6925-47EB-92AB-0F5F44AD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744-3F39-4CF0-8B74-0A93D8F9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A95-8043-4383-ADEC-89F165A1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4EA-AE2F-4A97-AA45-6660EA1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C41-3FFC-4204-8284-48680809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992-A950-4DB5-B4A2-D30F688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B0C-9583-4DF1-AAB2-A0CB9E0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192-6972-453B-AB3C-A673F43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17D-E42F-45B2-99A9-4818F7F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6E0-241B-4D46-878F-144CD3F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EA8-650C-47E0-AA64-B17DEBAB6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-928440"/>
            <a:ext cx="65516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bbe0e3"/>
                </a:solidFill>
                <a:latin typeface="Bookman Old Style"/>
              </a:rPr>
              <a:t>9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акъв,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р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ез всяко извин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и Теб аз, греш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Твоя храм дошел съм, 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8000" y="-418320"/>
            <a:ext cx="56530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а кръ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е мойто упов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вечна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 любов аз вярв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360" y="-130464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3. Такъв, какъвто съм: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рби отвън, отвътре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трахове, Ти Покровител ми бъди!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1640" y="-83160"/>
            <a:ext cx="565308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Какъвто съ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ляп, сиромах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здраве и спас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избавление от грях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178520" cy="52293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-48852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5. Какъвто съм, но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ярвам а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обещ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туй покор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ч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46:23Z</dcterms:created>
  <dc:creator>TrifonTrifonow</dc:creator>
  <dc:description/>
  <dc:language>en-US</dc:language>
  <cp:lastModifiedBy>TrifonTrifonow</cp:lastModifiedBy>
  <dcterms:modified xsi:type="dcterms:W3CDTF">2005-11-22T09:16:01Z</dcterms:modified>
  <cp:revision>16</cp:revision>
  <dc:subject/>
  <dc:title>Slide 1</dc:title>
</cp:coreProperties>
</file>