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D3A5-ACDF-4894-BD71-036E73BB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BBD6-ACB2-4460-BA28-60136AF4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1A02-0186-44A0-A7A0-0FCA93CE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523-6A47-4FBC-A45A-BDAFD4A2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53F-C852-40E6-950A-489C3FAD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EA7-971E-4396-AAC5-CC76B950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B40F-3700-4A23-AD56-4C1095BF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2A06-FB3D-4D3E-9DA5-0039A391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F20E-691D-474F-901A-E0EED9B8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6280-13D7-4205-9300-A955907D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825F-F49F-48E5-97EE-8ECB4C3D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D0DF-1450-462B-878C-2F67AB10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DF3B-939F-4BA1-AB69-9822C0835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99560" y="-15480"/>
            <a:ext cx="664704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808080"/>
                </a:solidFill>
                <a:latin typeface="Monotype Corsiva"/>
              </a:rPr>
              <a:t>38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След една седмица трудна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от делата на тоз свят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стигнахме почивка чудна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в ден благословен и свят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Радос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и блаженство дава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скъп е дар от Бога мой;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ой душа ми освежава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в него имам аз пок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4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911520" y="1824120"/>
            <a:ext cx="6709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Само шест дни да работим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определи за нас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седмия пък да осветим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заповяда Той тогаз.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Но не първий ден, неделя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за покой е отреден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Всеки трябва да отделя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свят за Него седмий де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921960" y="2350800"/>
            <a:ext cx="6930360" cy="44830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Адам съботата в рая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пази, също и Христос;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жиите слуги до края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следват този пример прост.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Всичко може да пропадне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но законът е без край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Нито събота ще падне - 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я ще трай и в вечний р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03:33Z</dcterms:created>
  <dc:creator>TrifonTrifonow</dc:creator>
  <dc:description/>
  <dc:language>en-US</dc:language>
  <cp:lastModifiedBy>TrifonTrifonow</cp:lastModifiedBy>
  <dcterms:modified xsi:type="dcterms:W3CDTF">2005-11-23T17:20:42Z</dcterms:modified>
  <cp:revision>5</cp:revision>
  <dc:subject/>
  <dc:title>Slide 1</dc:title>
</cp:coreProperties>
</file>