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B65-2074-4878-8066-2A5D5629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F13-B587-424A-AD51-F8AFDD7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F22-0023-42DC-A7CB-791C78D5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25F-6755-472A-A33D-C4D2611D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728-6650-41E3-A634-14BD06A4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E76-FF98-4076-A7CF-40B828C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040-3496-4189-AE41-9A3E597E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8B8-DC2D-462E-92FA-92792C4D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AA3-903E-4D3A-8433-91FFE31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376-FC0F-435D-981E-99B7D42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0B3-3D00-4B14-B769-571B186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A25-ADF7-4031-8167-A2ABB93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B09-1DC7-44C5-A0AA-D736084A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170640"/>
            <a:ext cx="76640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ccff"/>
                </a:solidFill>
                <a:latin typeface="comic"/>
              </a:rPr>
              <a:t>95</a:t>
            </a:r>
            <a:r>
              <a:rPr b="1" lang="en-US" sz="4800" spc="-1" strike="noStrike">
                <a:solidFill>
                  <a:srgbClr val="ffccff"/>
                </a:solidFill>
                <a:latin typeface="comic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На живота изворът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във Христовото сърц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Всеки грешник та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умит от греха си, бива чис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1080" y="4464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И разбойник прико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с тази кръв бе оправд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Там да бих и аз дош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опрощение бих прие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5280" y="333360"/>
            <a:ext cx="712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Агнец скъп! Таз кръв св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е спасение на све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Който вярва в Теб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той съучастник става Т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-160560"/>
            <a:ext cx="44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И откак намер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аз този изво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от тогаз в Теб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Боже, се теш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благодарен от душ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1:23:21Z</dcterms:created>
  <dc:creator>TrifonTrifonow</dc:creator>
  <dc:description/>
  <dc:language>en-US</dc:language>
  <cp:lastModifiedBy>TrifonTrifonow</cp:lastModifiedBy>
  <dcterms:modified xsi:type="dcterms:W3CDTF">2005-11-23T21:42:10Z</dcterms:modified>
  <cp:revision>10</cp:revision>
  <dc:subject/>
  <dc:title>Slide 1</dc:title>
</cp:coreProperties>
</file>