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A7A-0EF6-49B8-8C23-19FC4AFC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7EB-4BDF-4439-BDDF-D3FDC4C2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793-7541-4A05-88AD-366528FE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7F4-CFD9-40E1-A294-D2589B3D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1C3-7059-4CEE-A737-E5EB8E37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D52-2BE1-40BE-A320-7F2D2BCF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679-0E31-4B84-B53B-AD2711B9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FEF-8F1A-42C0-9D83-45236BE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A69-51F9-407A-9955-0A66BE27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316-260D-4F9D-BFD7-4F8CD53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CD8-C112-4F23-8F43-9FF8EADD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49C-2FC3-4623-98D5-9B69AB2A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330E-F3E4-4059-B333-DFEA95DCF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05000"/>
            <a:ext cx="8964720" cy="612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Живот има във погле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към Христ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сус зове: „Ела при Мен!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Земни богатства са суе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съкровище е сам Исус за ме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000" y="981000"/>
            <a:ext cx="601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огледни към Голгота, там живот има в Христа, щастие, мир и весел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 погледа към Голг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349360"/>
            <a:ext cx="90727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2. Внимавам във святи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Му сло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вярвам във обещаният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победата ми е гото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щом гледам на Спас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страдани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2000" y="981000"/>
            <a:ext cx="601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огледни към Голгота, там живот има в Христа, щастие, мир и весел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 погледа към Голг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71640" y="-1800"/>
            <a:ext cx="71643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3. Когато поглежда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аз към Хрис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тоз мой Спасите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от грех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дава ми сил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да се спа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от страшните прим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на Сатана!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32000" y="981000"/>
            <a:ext cx="601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огледни към Голгота, там живот има в Христа, щастие, мир и весел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 погледа към Голг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0:05:31Z</dcterms:created>
  <dc:creator>TrifonTrifonow</dc:creator>
  <dc:description/>
  <dc:language>en-US</dc:language>
  <cp:lastModifiedBy>TrifonTrifonow</cp:lastModifiedBy>
  <dcterms:modified xsi:type="dcterms:W3CDTF">2005-11-22T09:10:15Z</dcterms:modified>
  <cp:revision>9</cp:revision>
  <dc:subject/>
  <dc:title>Slide 1</dc:title>
</cp:coreProperties>
</file>