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951-4A15-49C6-9E94-685AA297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56E-7BDD-4176-8B7E-11E9F123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F35-CD24-4734-A04D-DF31B5EC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81C-8DB7-4323-B148-7E8703BE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D41-69C5-4E8C-B175-4EB6392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A9B-677A-4624-8397-38364EC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8F7-AA41-457D-9D6B-B83712E5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1B3-4FBE-4418-A0B4-7E9878BC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861-C361-4B76-A788-5AFF109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76D-6BCF-47B6-91B4-4837107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FA7-1E3B-4FC7-9860-89B68BC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254-3D87-43F7-84EB-8577B5E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F3B-2DE3-4B06-9787-567849DF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26200" y="720"/>
            <a:ext cx="635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                  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71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сусе, с наште грехов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товарен бе;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й-тежки мъки изтърпя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 свята кръв про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5920" y="-26640"/>
            <a:ext cx="66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Умря Той да помилва на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от да ни даде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Когато дойде сам Христо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с в рай ще завед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814680" y="-26640"/>
            <a:ext cx="68907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ей Ти в мене, о, Христе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 Отца царувай там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бител Своя туй сърц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прави и хр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31:45Z</dcterms:created>
  <dc:creator>TrifonTrifonow</dc:creator>
  <dc:description/>
  <dc:language>en-US</dc:language>
  <cp:lastModifiedBy>TrifonTrifonow</cp:lastModifiedBy>
  <dcterms:modified xsi:type="dcterms:W3CDTF">2005-11-23T18:48:38Z</dcterms:modified>
  <cp:revision>6</cp:revision>
  <dc:subject/>
  <dc:title>Slide 1</dc:title>
</cp:coreProperties>
</file>