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E619-6C2D-4F85-BBC6-A92BEB61D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92E9-29D3-4BA4-B70B-CBD26F8D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3300-4331-4D2B-9D90-AF1A871A8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4FF6-44AD-4D3B-B224-293A397E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60E1-7009-49E5-98C1-D65113D6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5945-C872-4A32-B480-B6606B6B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A9E3-6F9D-4A51-B67B-0C2A0BCB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0F46-F67E-42A2-A752-45CEC02E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06CD-F9A9-4A0D-8950-ED2A64CC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DB1A-C479-4ACC-BEC6-E28E5CE4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2740-5A8A-487C-8DC5-D56B8FDD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140-5C8A-4AFB-8E29-A078C4B3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2BF7-3074-4C75-99B4-2DE804B7D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24000" y="3141720"/>
            <a:ext cx="4498920" cy="33685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</p:pic>
      <p:sp>
        <p:nvSpPr>
          <p:cNvPr id="42" name=""/>
          <p:cNvSpPr/>
          <p:nvPr/>
        </p:nvSpPr>
        <p:spPr>
          <a:xfrm>
            <a:off x="4211640" y="0"/>
            <a:ext cx="4788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bbe0e3"/>
                </a:solidFill>
                <a:latin typeface="comic"/>
              </a:rPr>
              <a:t>27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Кой направил е цветята? Кой с росица ги пои?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                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 Кой им даде аромата? Кой ги с краски украс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1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" y="2781360"/>
            <a:ext cx="4800600" cy="38098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</p:pic>
      <p:sp>
        <p:nvSpPr>
          <p:cNvPr id="45" name=""/>
          <p:cNvSpPr/>
          <p:nvPr/>
        </p:nvSpPr>
        <p:spPr>
          <a:xfrm>
            <a:off x="3492360" y="189000"/>
            <a:ext cx="55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Кой на птичките крилата 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              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дал е леко да летят? 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                      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Кой научи ги гнездата 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                     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в шумата да си строя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4000" y="3284640"/>
            <a:ext cx="4790880" cy="32479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</p:pic>
      <p:sp>
        <p:nvSpPr>
          <p:cNvPr id="47" name=""/>
          <p:cNvSpPr/>
          <p:nvPr/>
        </p:nvSpPr>
        <p:spPr>
          <a:xfrm>
            <a:off x="3348000" y="476280"/>
            <a:ext cx="54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Мравчицата кой научи 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                     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да си скътва туй житце, 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                  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 пчелата мед да смуче 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                 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от красивото цветч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95280" y="2838600"/>
            <a:ext cx="5184720" cy="36860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</p:pic>
      <p:sp>
        <p:nvSpPr>
          <p:cNvPr id="49" name=""/>
          <p:cNvSpPr/>
          <p:nvPr/>
        </p:nvSpPr>
        <p:spPr>
          <a:xfrm>
            <a:off x="3995640" y="333360"/>
            <a:ext cx="49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Всичко Ти направи, Боже, Ти Си всичко наредил! Птичката да хвърка може, че крилца Си й дари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498920" y="4595760"/>
            <a:ext cx="453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Ти направи небесата, деня ясен и нощта.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 Тебе славят на земята и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най-малките неща!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4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07:12:42Z</dcterms:created>
  <dc:creator>TrifonTrifonow</dc:creator>
  <dc:description/>
  <dc:language>en-US</dc:language>
  <cp:lastModifiedBy>TrifonTrifonow</cp:lastModifiedBy>
  <dcterms:modified xsi:type="dcterms:W3CDTF">2005-12-08T07:44:05Z</dcterms:modified>
  <cp:revision>13</cp:revision>
  <dc:subject/>
  <dc:title>Slide 1</dc:title>
</cp:coreProperties>
</file>