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0DA-0D0C-4ED5-B262-EB65038F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89C-F9E2-4416-A47A-9069C8E9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D98-8190-4374-BB3E-47913FAA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706-829D-44B8-90BD-18163001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C29-4942-4CB7-B43E-D8D1AD82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B16-8E00-4479-859B-10C7A342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512-6A57-44E8-A155-D7760CB2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7EC-73A6-4DE3-B829-9C9A7EA9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D3E-2E4C-4CED-9CF4-B38A002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0C4-4EFB-418A-8D20-242059A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F90-062E-4ED4-8670-E08FF79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0F2-7FE5-4C43-9E33-03B1C5D0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0ADA-29D5-4755-9488-AB84078EE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5640" y="2890800"/>
            <a:ext cx="7991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Аз ще възпея на Исуса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удната Му любов към мен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е Той на кръста зле пострада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за да съм аз освободен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080" y="3608280"/>
            <a:ext cx="816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Аз ще да хваля тоз Спасител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е е надвил над сатана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тъй е станал Победител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над греховете и смърт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9360" y="3679920"/>
            <a:ext cx="732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За мой Спас ще аз да пея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на кръста как за мен умря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та във блаженство да живея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дружно със Него във неб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7:36:00Z</dcterms:created>
  <dc:creator>TrifonTrifonow</dc:creator>
  <dc:description/>
  <dc:language>en-US</dc:language>
  <cp:lastModifiedBy>TrifonTrifonow</cp:lastModifiedBy>
  <dcterms:modified xsi:type="dcterms:W3CDTF">2005-11-22T07:16:42Z</dcterms:modified>
  <cp:revision>10</cp:revision>
  <dc:subject/>
  <dc:title>Slide 1</dc:title>
</cp:coreProperties>
</file>