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398-BA24-4F44-8ACD-436196CE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559-2BAC-4FB4-BBEF-06FC5F67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B29-AA0F-45F5-806B-6DDA9750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4D0-85A6-4196-AF0F-984428C3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018-5DA3-4C05-83F8-3DE024EA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454-BC9E-45EA-ABF2-749FF266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E4A-F6E0-4BC9-AE8E-8D4F0903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B28-7D24-479D-A531-F97E92D6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8C9-EB86-4AAD-A3CC-F420D035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E04-0E2A-4981-A0EB-357CEF4F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413-D2DE-45DC-B44A-39E4E15F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FE2-E515-45D0-96F6-40E15F7E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126B-42F6-48A4-9B70-556E394C3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40360" y="333360"/>
            <a:ext cx="5003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eaeaea"/>
                </a:solidFill>
                <a:latin typeface="comic"/>
              </a:rPr>
              <a:t>24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оже наш, ний Теб се молим: Дай ни успех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Против злото да се борим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Ти молбата ни да чуеш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с сполука увенчаеш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Дай ни усп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24360" y="189000"/>
            <a:ext cx="5219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Таз молба ние ще повторим: 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стината да говорим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Както на светиите в древност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 Ти служим ние със ревност, дай ни усп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0" y="6480"/>
            <a:ext cx="9142560" cy="6845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356000" cy="69181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стоянно да се молим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еуморно да се трудим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подвизи непостижим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ъс Духа Си подкрепи ни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20:44:47Z</dcterms:created>
  <dc:creator>TrifonTrifonow</dc:creator>
  <dc:description/>
  <dc:language>en-US</dc:language>
  <cp:lastModifiedBy>TrifonTrifonow</cp:lastModifiedBy>
  <dcterms:modified xsi:type="dcterms:W3CDTF">2005-12-01T21:01:18Z</dcterms:modified>
  <cp:revision>8</cp:revision>
  <dc:subject/>
  <dc:title>Slide 1</dc:title>
</cp:coreProperties>
</file>