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3AF-E249-4C8D-B498-19887240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C40-548C-48D3-B9D2-166E480C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821A-F49C-4970-85DE-91CCB96F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51F-C3F2-4A1E-A4CF-DD6DBFE5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EF9-83C2-44B4-AA82-9557D83C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632-62C4-4937-82D4-58E3DBA4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146-7EAC-4111-8982-97CF9643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579-2B5D-4E02-88F4-17B21CB8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59B-B159-432E-8FBC-88E02252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AEB-824D-4765-AD54-48EF8D29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42E-122A-43C3-BB45-BB3BC6D2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8D2-55F7-4269-84E1-158A5B10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4FAF-6545-4274-AA26-BBF92E23F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34920" y="367200"/>
            <a:ext cx="921348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Живота Си за теб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Аз дадох, твоя Спас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т смърт да те спася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пролях кръвта Си Аз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Умрях на кръст ти да си жив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и в вечността щастлив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о смърт за тебе Съм страдал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Мен ти що си да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896760" y="700920"/>
            <a:ext cx="768348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ставих светъл дом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ставих слава там;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във земна тъмнин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ойдох - теб светлина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Престол оставих за бед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и ангелски среди;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и нещо - помисли - дал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Мен оставил с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710640" y="700920"/>
            <a:ext cx="730836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тебе Аз страдах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в пот кървав се облях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т тежка скръб обзет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на кръст Аз бях разпет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Езикът ти, о, грешниче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не мож го изрече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ега добре си помисли -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Мен страдал ли с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00:40:38Z</dcterms:created>
  <dc:creator>TrifonTrifonow</dc:creator>
  <dc:description/>
  <dc:language>en-US</dc:language>
  <cp:lastModifiedBy>TrifonTrifonow</cp:lastModifiedBy>
  <dcterms:modified xsi:type="dcterms:W3CDTF">2005-11-22T07:32:36Z</dcterms:modified>
  <cp:revision>4</cp:revision>
  <dc:subject/>
  <dc:title>Slide 1</dc:title>
</cp:coreProperties>
</file>